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F2538-CA2F-4749-8454-CE249B802BB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4CB6D-2290-466C-BF0D-F39CA15EA72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blogs.it.ox.ac.uk/damaro/2013/06/14/survey-results-research-data-management-knowledge-and-training-needs-among-university-of-oxford-research-support-staff/</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0BBC3-99BC-45DB-9550-4D1C321B7DE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blogs.it.ox.ac.uk/damaro/2013/06/14/survey-results-research-data-management-knowledge-and-training-needs-among-university-of-oxford-research-support-sta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B2218-4F18-40E3-8546-F6A6552EC0D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blogs.it.ox.ac.uk/damaro/2013/06/14/survey-results-research-data-management-knowledge-and-training-needs-among-university-of-oxford-research-support-sta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7EFB7-1BD0-4662-9FCD-4C0C24A20A3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www.google.co.za/#output=search&amp;sclient=psy-ab&amp;q=publish+definition&amp;oq=publish+definition&amp;gs_l=hp.3...704.4203.1.4627.18.11.0.0.0.0.0.0..0.0.crnk_timediscounta..0.0...1.1.17.hp.n0Rw85BJioU&amp;bav=on.2,or.r_cp.r_qf.&amp;bvm=bv.48293060,d.d2k&amp;fp=f04199c40a57d6f3&amp;biw=1920&amp;bih=867</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B9120-3CB9-4B4D-8909-9C1F95C7A79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B5F08-7EBB-4E7D-ADED-8484A832B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4A682-A67D-45A8-B86D-FDC3F5D31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027CF-2444-4C0B-A29E-26FC7C0C6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C13E3-4883-47ED-90B9-CC15792A5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B0B39-6C44-4013-B1A8-5A4880E58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0E34A-3EB3-41BC-99F8-EEEC2E01D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B6727-FB36-4D77-8075-C30DE9D5A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CB829-1E97-4502-B59F-224921F05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9EF4F-BEA9-4832-9CEA-1283E8507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571BF-9F14-458A-8A5E-4DAD271E0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2740C-2486-4779-B1C8-56C00120D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0D4F-6051-4B39-A1F6-9C1ADF37E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1D8D9-CE06-42CF-9442-0238852DB5B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oac.ceon.rs/index.php/BOAC/12/paper/view/83/14" TargetMode="External"/><Relationship Id="rId2" Type="http://schemas.openxmlformats.org/officeDocument/2006/relationships/hyperlink" Target="http://blogs.it.ox.ac.uk/damaro/2013/06/14/survey-results-research-data-management-knowledge-and-training-needs-among-university-of-oxford-research-support-staff/"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90760"/>
            <a:ext cx="8686800" cy="1797120"/>
          </a:xfrm>
          <a:prstGeom prst="rect">
            <a:avLst/>
          </a:prstGeom>
          <a:noFill/>
          <a:ln w="0">
            <a:noFill/>
          </a:ln>
        </p:spPr>
        <p:txBody>
          <a:bodyPr anchor="ctr">
            <a:noAutofit/>
          </a:bodyPr>
          <a:p>
            <a:pPr indent="0">
              <a:lnSpc>
                <a:spcPct val="100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46c0a"/>
                </a:solidFill>
                <a:latin typeface="Arial Narrow"/>
                <a:ea typeface="Arial Narrow"/>
              </a:rPr>
              <a:t>Discoverability and 21</a:t>
            </a:r>
            <a:r>
              <a:rPr b="1" lang="en-US" sz="3200" spc="-1" strike="noStrike" baseline="30000">
                <a:solidFill>
                  <a:srgbClr val="e46c0a"/>
                </a:solidFill>
                <a:latin typeface="Arial Narrow"/>
                <a:ea typeface="Arial Narrow"/>
              </a:rPr>
              <a:t>st</a:t>
            </a:r>
            <a:r>
              <a:rPr b="1" lang="en-US" sz="3200" spc="-1" strike="noStrike">
                <a:solidFill>
                  <a:srgbClr val="e46c0a"/>
                </a:solidFill>
                <a:latin typeface="Arial Narrow"/>
                <a:ea typeface="Arial Narrow"/>
              </a:rPr>
              <a:t> Century Scholarly Communication: A local perspective</a:t>
            </a:r>
            <a:br>
              <a:rPr sz="3600"/>
            </a:br>
            <a:br>
              <a:rPr sz="3600"/>
            </a:br>
            <a:endParaRPr b="0" lang="en-US" sz="3200" spc="-1" strike="noStrike">
              <a:solidFill>
                <a:srgbClr val="000000"/>
              </a:solidFill>
              <a:latin typeface="Calibri"/>
            </a:endParaRPr>
          </a:p>
        </p:txBody>
      </p:sp>
      <p:sp>
        <p:nvSpPr>
          <p:cNvPr id="49" name=""/>
          <p:cNvSpPr txBox="1"/>
          <p:nvPr/>
        </p:nvSpPr>
        <p:spPr>
          <a:xfrm>
            <a:off x="456840" y="3647880"/>
            <a:ext cx="6745320" cy="2477880"/>
          </a:xfrm>
          <a:prstGeom prst="rect">
            <a:avLst/>
          </a:prstGeom>
          <a:noFill/>
          <a:ln w="0">
            <a:noFill/>
          </a:ln>
        </p:spPr>
        <p:txBody>
          <a:bodyPr anchor="t">
            <a:norm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800" spc="-1" strike="noStrike">
                <a:solidFill>
                  <a:srgbClr val="000000"/>
                </a:solidFill>
                <a:latin typeface="Arial"/>
                <a:ea typeface="Arial"/>
              </a:rPr>
              <a:t>Carnegie Nairobi Workshop</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800" spc="-1" strike="noStrike">
                <a:solidFill>
                  <a:srgbClr val="000000"/>
                </a:solidFill>
                <a:latin typeface="Arial"/>
                <a:ea typeface="Arial"/>
              </a:rPr>
              <a:t>10 March 2014</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800" spc="-1" strike="noStrike">
                <a:solidFill>
                  <a:srgbClr val="000000"/>
                </a:solidFill>
                <a:latin typeface="Arial"/>
                <a:ea typeface="Arial"/>
              </a:rPr>
              <a:t>Michelle Willmers</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800" spc="-1" strike="noStrike">
                <a:solidFill>
                  <a:srgbClr val="000000"/>
                </a:solidFill>
                <a:latin typeface="Arial"/>
                <a:ea typeface="Arial"/>
              </a:rPr>
              <a:t>Project Manager: OpenUCT Initiative</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800" spc="-1" strike="noStrike">
                <a:solidFill>
                  <a:srgbClr val="000000"/>
                </a:solidFill>
                <a:latin typeface="Arial"/>
                <a:ea typeface="Arial"/>
              </a:rPr>
              <a:t>CC-BY</a:t>
            </a:r>
            <a:endParaRPr b="0" lang="en-US" sz="1800" spc="-1" strike="noStrike">
              <a:solidFill>
                <a:srgbClr val="000000"/>
              </a:solidFill>
              <a:latin typeface="Calibri"/>
            </a:endParaRPr>
          </a:p>
        </p:txBody>
      </p:sp>
      <p:pic>
        <p:nvPicPr>
          <p:cNvPr id="50" name="Picture 2" descr="OpenUCT.png"/>
          <p:cNvPicPr/>
          <p:nvPr/>
        </p:nvPicPr>
        <p:blipFill>
          <a:blip r:embed="rId1"/>
          <a:stretch/>
        </p:blipFill>
        <p:spPr>
          <a:xfrm>
            <a:off x="284040" y="549360"/>
            <a:ext cx="5616720" cy="12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6600"/>
                </a:solidFill>
                <a:latin typeface="Calibri"/>
              </a:rPr>
              <a:t>So…</a:t>
            </a:r>
            <a:endParaRPr b="0" lang="en-US" sz="7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re do we beg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6600"/>
                </a:solidFill>
                <a:latin typeface="Arial Narrow"/>
                <a:ea typeface="Arial Narrow"/>
              </a:rPr>
              <a:t>1. In order to realise the value of the full ecosystem we need to recognise the full ecosystem</a:t>
            </a:r>
            <a:endParaRPr b="0" lang="en-US" sz="2400" spc="-1" strike="noStrike">
              <a:solidFill>
                <a:srgbClr val="000000"/>
              </a:solidFill>
              <a:latin typeface="Calibri"/>
            </a:endParaRPr>
          </a:p>
        </p:txBody>
      </p:sp>
      <p:pic>
        <p:nvPicPr>
          <p:cNvPr id="122" name="Content Placeholder 3" descr="Blank chat triangle sans icons.png"/>
          <p:cNvPicPr/>
          <p:nvPr/>
        </p:nvPicPr>
        <p:blipFill>
          <a:blip r:embed="rId1"/>
          <a:srcRect l="-7619" t="0" r="-761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4" name="Content Placeholder 3" descr=""/>
          <p:cNvPicPr/>
          <p:nvPr/>
        </p:nvPicPr>
        <p:blipFill>
          <a:blip r:embed="rId1"/>
          <a:stretch/>
        </p:blipFill>
        <p:spPr>
          <a:xfrm>
            <a:off x="0" y="0"/>
            <a:ext cx="9144000" cy="645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22924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6600"/>
                </a:solidFill>
                <a:latin typeface="Arial Narrow"/>
                <a:ea typeface="Arial Narrow"/>
              </a:rPr>
              <a:t>2. Develop and recognise new breeds of scholarly communication professionals</a:t>
            </a:r>
            <a:endParaRPr b="0" lang="en-US" sz="3200" spc="-1" strike="noStrike">
              <a:solidFill>
                <a:srgbClr val="000000"/>
              </a:solidFill>
              <a:latin typeface="Calibri"/>
            </a:endParaRPr>
          </a:p>
        </p:txBody>
      </p:sp>
      <p:sp>
        <p:nvSpPr>
          <p:cNvPr id="126" name="TextBox 5"/>
          <p:cNvSpPr/>
          <p:nvPr/>
        </p:nvSpPr>
        <p:spPr>
          <a:xfrm>
            <a:off x="784080" y="2824200"/>
            <a:ext cx="7390080" cy="1922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cademics</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brarians</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earch Managers</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you-macallits and Intermediaries</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28" name="Content Placeholder 3" descr="Oxford1.tiff"/>
          <p:cNvPicPr/>
          <p:nvPr/>
        </p:nvPicPr>
        <p:blipFill>
          <a:blip r:embed="rId1"/>
          <a:srcRect l="0" t="-3052" r="0" b="-3052"/>
          <a:stretch/>
        </p:blipFill>
        <p:spPr>
          <a:xfrm>
            <a:off x="0" y="498600"/>
            <a:ext cx="9225000" cy="507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30" name="Content Placeholder 3" descr="Oxford2.tiff"/>
          <p:cNvPicPr/>
          <p:nvPr/>
        </p:nvPicPr>
        <p:blipFill>
          <a:blip r:embed="rId1"/>
          <a:srcRect l="-32338" t="0" r="-32338" b="0"/>
          <a:stretch/>
        </p:blipFill>
        <p:spPr>
          <a:xfrm>
            <a:off x="-412920" y="1120680"/>
            <a:ext cx="9407520" cy="5175360"/>
          </a:xfrm>
          <a:prstGeom prst="rect">
            <a:avLst/>
          </a:prstGeom>
          <a:ln w="0">
            <a:noFill/>
          </a:ln>
        </p:spPr>
      </p:pic>
      <p:sp>
        <p:nvSpPr>
          <p:cNvPr id="131" name="TextBox 4"/>
          <p:cNvSpPr/>
          <p:nvPr/>
        </p:nvSpPr>
        <p:spPr>
          <a:xfrm>
            <a:off x="457200" y="274680"/>
            <a:ext cx="43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Narrow"/>
                <a:ea typeface="Arial Narrow"/>
              </a:rPr>
              <a:t>Extract from summary overvi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33" name="Content Placeholder 3" descr="Oxford3.tiff"/>
          <p:cNvPicPr/>
          <p:nvPr/>
        </p:nvPicPr>
        <p:blipFill>
          <a:blip r:embed="rId1"/>
          <a:srcRect l="-22315" t="0" r="-22315" b="0"/>
          <a:stretch/>
        </p:blipFill>
        <p:spPr>
          <a:xfrm>
            <a:off x="-636480" y="149400"/>
            <a:ext cx="11137680" cy="6126120"/>
          </a:xfrm>
          <a:prstGeom prst="rect">
            <a:avLst/>
          </a:prstGeom>
          <a:ln w="0">
            <a:noFill/>
          </a:ln>
        </p:spPr>
      </p:pic>
      <p:sp>
        <p:nvSpPr>
          <p:cNvPr id="134" name="TextBox 4"/>
          <p:cNvSpPr/>
          <p:nvPr/>
        </p:nvSpPr>
        <p:spPr>
          <a:xfrm>
            <a:off x="230040" y="6296040"/>
            <a:ext cx="544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urce: University of Oxford DataPool Projec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5040" y="274320"/>
            <a:ext cx="8591400" cy="6714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7933c"/>
                </a:solidFill>
                <a:latin typeface="Arial Narrow"/>
                <a:ea typeface="Arial Narrow"/>
              </a:rPr>
              <a:t>Scholarly Communication Stakeholders </a:t>
            </a:r>
            <a:r>
              <a:rPr b="0" lang="en-US" sz="1400" spc="-1" strike="noStrike">
                <a:solidFill>
                  <a:srgbClr val="000000"/>
                </a:solidFill>
                <a:latin typeface="Arial Narrow"/>
                <a:ea typeface="Arial Narrow"/>
              </a:rPr>
              <a:t>(Fairy &amp; Owen 2013)</a:t>
            </a:r>
            <a:endParaRPr b="0" lang="en-US" sz="1400" spc="-1" strike="noStrike">
              <a:solidFill>
                <a:srgbClr val="000000"/>
              </a:solidFill>
              <a:latin typeface="Calibri"/>
            </a:endParaRPr>
          </a:p>
        </p:txBody>
      </p:sp>
      <p:sp>
        <p:nvSpPr>
          <p:cNvPr id="136" name=""/>
          <p:cNvSpPr txBox="1"/>
          <p:nvPr/>
        </p:nvSpPr>
        <p:spPr>
          <a:xfrm>
            <a:off x="242640" y="1107720"/>
            <a:ext cx="8443800" cy="501804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Narrow"/>
                <a:ea typeface="Arial Narrow"/>
              </a:rPr>
              <a:t>Central IT</a:t>
            </a:r>
            <a:endParaRPr b="0" lang="en-US" sz="1600" spc="-1" strike="noStrike">
              <a:solidFill>
                <a:srgbClr val="000000"/>
              </a:solidFill>
              <a:latin typeface="Calibri"/>
            </a:endParaRPr>
          </a:p>
          <a:p>
            <a:pPr lvl="1" marL="743040" indent="-28584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Narrow"/>
                <a:ea typeface="Arial Narrow"/>
              </a:rPr>
              <a:t>Storage</a:t>
            </a:r>
            <a:endParaRPr b="0" lang="en-US" sz="1200" spc="-1" strike="noStrike">
              <a:solidFill>
                <a:srgbClr val="000000"/>
              </a:solidFill>
              <a:latin typeface="Calibri"/>
            </a:endParaRPr>
          </a:p>
          <a:p>
            <a:pPr lvl="1" marL="743040" indent="-28584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Narrow"/>
                <a:ea typeface="Arial Narrow"/>
              </a:rPr>
              <a:t>Computing resources</a:t>
            </a:r>
            <a:endParaRPr b="0" lang="en-US" sz="1200" spc="-1" strike="noStrike">
              <a:solidFill>
                <a:srgbClr val="000000"/>
              </a:solidFill>
              <a:latin typeface="Calibri"/>
            </a:endParaRPr>
          </a:p>
          <a:p>
            <a:pPr lvl="1" marL="743040" indent="-28584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Narrow"/>
                <a:ea typeface="Arial Narrow"/>
              </a:rPr>
              <a:t>Networking</a:t>
            </a:r>
            <a:endParaRPr b="0" lang="en-US" sz="1200" spc="-1" strike="noStrike">
              <a:solidFill>
                <a:srgbClr val="000000"/>
              </a:solidFill>
              <a:latin typeface="Calibri"/>
            </a:endParaRPr>
          </a:p>
          <a:p>
            <a:pPr lvl="1" marL="743040" indent="-28584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Narrow"/>
                <a:ea typeface="Arial Narrow"/>
              </a:rPr>
              <a:t>Programming / development</a:t>
            </a:r>
            <a:endParaRPr b="0" lang="en-US" sz="1200" spc="-1" strike="noStrike">
              <a:solidFill>
                <a:srgbClr val="000000"/>
              </a:solidFill>
              <a:latin typeface="Calibri"/>
            </a:endParaRPr>
          </a:p>
          <a:p>
            <a:pPr lvl="1" marL="743040" indent="-28584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Narrow"/>
                <a:ea typeface="Arial Narrow"/>
              </a:rPr>
              <a:t>Database</a:t>
            </a:r>
            <a:endParaRPr b="0" lang="en-US" sz="1200" spc="-1" strike="noStrike">
              <a:solidFill>
                <a:srgbClr val="000000"/>
              </a:solidFill>
              <a:latin typeface="Calibri"/>
            </a:endParaRPr>
          </a:p>
          <a:p>
            <a:pPr lvl="1" marL="743040" indent="-28584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Narrow"/>
                <a:ea typeface="Arial Narrow"/>
              </a:rPr>
              <a:t>Security</a:t>
            </a:r>
            <a:endParaRPr b="0" lang="en-US" sz="12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Narrow"/>
                <a:ea typeface="Arial Narrow"/>
              </a:rPr>
              <a:t>Research Managers </a:t>
            </a:r>
            <a:endParaRPr b="0" lang="en-US" sz="1600" spc="-1" strike="noStrike">
              <a:solidFill>
                <a:srgbClr val="000000"/>
              </a:solidFill>
              <a:latin typeface="Calibri"/>
            </a:endParaRPr>
          </a:p>
          <a:p>
            <a:pPr lvl="1" marL="743040" indent="-28584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Narrow"/>
                <a:ea typeface="Arial Narrow"/>
              </a:rPr>
              <a:t>Budget input / allocation</a:t>
            </a:r>
            <a:endParaRPr b="0" lang="en-US" sz="1200" spc="-1" strike="noStrike">
              <a:solidFill>
                <a:srgbClr val="000000"/>
              </a:solidFill>
              <a:latin typeface="Calibri"/>
            </a:endParaRPr>
          </a:p>
          <a:p>
            <a:pPr lvl="1" marL="743040" indent="-28584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Narrow"/>
                <a:ea typeface="Arial Narrow"/>
              </a:rPr>
              <a:t>Researcher buy-in</a:t>
            </a:r>
            <a:endParaRPr b="0" lang="en-US" sz="1200" spc="-1" strike="noStrike">
              <a:solidFill>
                <a:srgbClr val="000000"/>
              </a:solidFill>
              <a:latin typeface="Calibri"/>
            </a:endParaRPr>
          </a:p>
          <a:p>
            <a:pPr lvl="1" marL="743040" indent="-28584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Narrow"/>
                <a:ea typeface="Arial Narrow"/>
              </a:rPr>
              <a:t>Reportage / R&amp;I integration</a:t>
            </a:r>
            <a:endParaRPr b="0" lang="en-US" sz="12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Narrow"/>
                <a:ea typeface="Arial Narrow"/>
              </a:rPr>
              <a:t>Legal counsel</a:t>
            </a:r>
            <a:endParaRPr b="0" lang="en-US" sz="1600" spc="-1" strike="noStrike">
              <a:solidFill>
                <a:srgbClr val="000000"/>
              </a:solidFill>
              <a:latin typeface="Calibri"/>
            </a:endParaRPr>
          </a:p>
          <a:p>
            <a:pPr lvl="1" marL="743040" indent="-28584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Narrow"/>
                <a:ea typeface="Arial Narrow"/>
              </a:rPr>
              <a:t>Guidance on IP, ethical and privacy considerations</a:t>
            </a:r>
            <a:endParaRPr b="0" lang="en-US" sz="12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Narrow"/>
                <a:ea typeface="Arial Narrow"/>
              </a:rPr>
              <a:t>Library / IR</a:t>
            </a:r>
            <a:endParaRPr b="0" lang="en-US" sz="16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Arial Narrow"/>
                <a:ea typeface="Arial Narrow"/>
              </a:rPr>
              <a:t>Classification and ingestion</a:t>
            </a:r>
            <a:endParaRPr b="0" lang="en-US" sz="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Narrow"/>
                <a:ea typeface="Arial Narrow"/>
              </a:rPr>
              <a:t>Computing services</a:t>
            </a:r>
            <a:endParaRPr b="0" lang="en-US" sz="16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Arial Narrow"/>
                <a:ea typeface="Arial Narrow"/>
              </a:rPr>
              <a:t>Links to storage options and consortia</a:t>
            </a:r>
            <a:endParaRPr b="0" lang="en-US" sz="8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Arial Narrow"/>
                <a:ea typeface="Arial Narrow"/>
              </a:rPr>
              <a:t>Provide information on cost to institution</a:t>
            </a:r>
            <a:endParaRPr b="0" lang="en-US" sz="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Narrow"/>
                <a:ea typeface="Arial Narrow"/>
              </a:rPr>
              <a:t>Other</a:t>
            </a:r>
            <a:endParaRPr b="0" lang="en-US" sz="16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Arial Narrow"/>
                <a:ea typeface="Arial Narrow"/>
              </a:rPr>
              <a:t>Projects</a:t>
            </a:r>
            <a:endParaRPr b="0" lang="en-US" sz="8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Arial Narrow"/>
                <a:ea typeface="Arial Narrow"/>
              </a:rPr>
              <a:t>Sponsored programmes</a:t>
            </a:r>
            <a:endParaRPr b="0" lang="en-US" sz="8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Arial Narrow"/>
                <a:ea typeface="Arial Narrow"/>
              </a:rPr>
              <a:t>Institutional support structures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46c0a"/>
                </a:solidFill>
                <a:latin typeface="Arial Narrow"/>
                <a:ea typeface="Arial Narrow"/>
              </a:rPr>
              <a:t>4. Explore regional collaboration and shared </a:t>
            </a:r>
            <a:br>
              <a:rPr sz="3600"/>
            </a:br>
            <a:r>
              <a:rPr b="0" lang="en-US" sz="3600" spc="-1" strike="noStrike">
                <a:solidFill>
                  <a:srgbClr val="e46c0a"/>
                </a:solidFill>
                <a:latin typeface="Arial Narrow"/>
                <a:ea typeface="Arial Narrow"/>
              </a:rPr>
              <a:t>e-infrastructure </a:t>
            </a:r>
            <a:r>
              <a:rPr b="0" lang="en-US" sz="3600" spc="-1" strike="noStrike">
                <a:solidFill>
                  <a:srgbClr val="000000"/>
                </a:solidFill>
                <a:latin typeface="Arial Narrow"/>
                <a:ea typeface="Arial Narrow"/>
              </a:rPr>
              <a:t>{GLOCAL}</a:t>
            </a:r>
            <a:endParaRPr b="0" lang="en-US" sz="36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933c"/>
                </a:solidFill>
                <a:latin typeface="Arial Narrow"/>
                <a:ea typeface="Arial Narrow"/>
              </a:rPr>
              <a:t>Skills &gt; capacity &gt; scalability</a:t>
            </a:r>
            <a:endParaRPr b="0" lang="en-US" sz="44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2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e46c0a"/>
                </a:solidFill>
                <a:latin typeface="Calibri"/>
              </a:rPr>
              <a:t>Values</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Scientific scholarly communication largely dictated by disciplinary norms; but still, not everyone wants their work highly visible (especially in small countries where everyone knows each other)</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Disciplinary conventions support open access sharing (ArXiv, etc), but do not hold a high regard for alternative outputs, unless their particular field has space or things like pre-prints or conference papers (journal articles are prized above all)</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e46c0a"/>
                </a:solidFill>
                <a:latin typeface="Calibri"/>
              </a:rPr>
              <a:t>Collaboration</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asier to collaborate with global North due for practical reasons (funding, connectivity, e-infrastructure, administrative support, etc.)</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e46c0a"/>
                </a:solidFill>
                <a:latin typeface="Calibri"/>
              </a:rPr>
              <a:t>Policy Environment</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stitutions require a scaffolding of policies to regulate, govern and grow scholarly communicaton and 21</a:t>
            </a:r>
            <a:r>
              <a:rPr b="0" lang="en-US" sz="1400" spc="-1" strike="noStrike" baseline="30000">
                <a:solidFill>
                  <a:srgbClr val="000000"/>
                </a:solidFill>
                <a:latin typeface="Calibri"/>
              </a:rPr>
              <a:t>st</a:t>
            </a:r>
            <a:r>
              <a:rPr b="0" lang="en-US" sz="1400" spc="-1" strike="noStrike">
                <a:solidFill>
                  <a:srgbClr val="000000"/>
                </a:solidFill>
                <a:latin typeface="Calibri"/>
              </a:rPr>
              <a:t> Century digital scholarship (e.g. open science embedded in institutional open access policies)</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Some Southern African universities do not have some of the foundational components of these policy frameworks (such as IP policies)</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he ambition to participate in 21</a:t>
            </a:r>
            <a:r>
              <a:rPr b="0" lang="en-US" sz="1400" spc="-1" strike="noStrike" baseline="30000">
                <a:solidFill>
                  <a:srgbClr val="000000"/>
                </a:solidFill>
                <a:latin typeface="Calibri"/>
              </a:rPr>
              <a:t>st</a:t>
            </a:r>
            <a:r>
              <a:rPr b="0" lang="en-US" sz="1400" spc="-1" strike="noStrike">
                <a:solidFill>
                  <a:srgbClr val="000000"/>
                </a:solidFill>
                <a:latin typeface="Calibri"/>
              </a:rPr>
              <a:t> Century digital scholarship must be synergised with existing rewards and incentive structures at policy level – policy frameworks (not just a moral campaign)</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41" name="TextBox 3"/>
          <p:cNvSpPr/>
          <p:nvPr/>
        </p:nvSpPr>
        <p:spPr>
          <a:xfrm>
            <a:off x="457200" y="339840"/>
            <a:ext cx="8096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ights and Findings from the Scholarly Communication in Africa Program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Addressing the discoverability imperative</a:t>
            </a:r>
            <a:endParaRPr b="0" lang="en-US" sz="3200" spc="-1" strike="noStrike">
              <a:solidFill>
                <a:srgbClr val="000000"/>
              </a:solidFill>
              <a:latin typeface="Calibri"/>
            </a:endParaRPr>
          </a:p>
        </p:txBody>
      </p:sp>
      <p:pic>
        <p:nvPicPr>
          <p:cNvPr id="52" name="Content Placeholder 3" descr="Scientific output distribution.png"/>
          <p:cNvPicPr/>
          <p:nvPr/>
        </p:nvPicPr>
        <p:blipFill>
          <a:blip r:embed="rId1"/>
          <a:srcRect l="4540" t="0" r="4540" b="0"/>
          <a:stretch/>
        </p:blipFill>
        <p:spPr>
          <a:xfrm>
            <a:off x="351000" y="1417680"/>
            <a:ext cx="8458200" cy="470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e46c0a"/>
                </a:solidFill>
                <a:latin typeface="Calibri"/>
              </a:rPr>
              <a:t>Open Access</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Quality assurance constitutes a significant factor which needs to be navigated in the drive for open approaches to knowledge production and sharing</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pen science vs protection against exploitation (particularly in context of traditional knowledge) </a:t>
            </a:r>
            <a:endParaRPr b="0" lang="en-US" sz="1400" spc="-1" strike="noStrike">
              <a:solidFill>
                <a:srgbClr val="000000"/>
              </a:solidFill>
              <a:latin typeface="Calibri"/>
            </a:endParaRPr>
          </a:p>
          <a:p>
            <a:pPr>
              <a:spcBef>
                <a:spcPts val="349"/>
              </a:spcBef>
              <a:buClr>
                <a:srgbClr val="e46c0a"/>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e46c0a"/>
                </a:solidFill>
                <a:latin typeface="Calibri"/>
              </a:rPr>
              <a:t>Scholarly Communication</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cientists lack platforms and skills for communicating their research with government or other communities outside of the academic context; and additionally require translational support</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oM FoS scholars who produce alternative outputs – briefings, reports, op-eds, public presentations – tend be individual senior scholars who are largely free of promotion concerns. R&amp;I systems – and where a scholar is located in their career lifecycle – has a profound impact on how scholars communicate.</a:t>
            </a:r>
            <a:endParaRPr b="0" lang="en-US" sz="1400" spc="-1" strike="noStrike">
              <a:solidFill>
                <a:srgbClr val="000000"/>
              </a:solidFill>
              <a:latin typeface="Calibr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AP Insights and Findings (co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llustrating Impact:</a:t>
            </a:r>
            <a:br>
              <a:rPr sz="2800"/>
            </a:br>
            <a:r>
              <a:rPr b="0" lang="en-US" sz="2800" spc="-1" strike="noStrike">
                <a:solidFill>
                  <a:srgbClr val="ff6600"/>
                </a:solidFill>
                <a:latin typeface="Calibri"/>
              </a:rPr>
              <a:t>Are we in a position to meet the demands for improved measurement and dissemination of research outputs?</a:t>
            </a:r>
            <a:endParaRPr b="0" lang="en-US" sz="2800" spc="-1" strike="noStrike">
              <a:solidFill>
                <a:srgbClr val="000000"/>
              </a:solidFill>
              <a:latin typeface="Calibri"/>
            </a:endParaRPr>
          </a:p>
        </p:txBody>
      </p:sp>
      <p:sp>
        <p:nvSpPr>
          <p:cNvPr id="145" name=""/>
          <p:cNvSpPr txBox="1"/>
          <p:nvPr/>
        </p:nvSpPr>
        <p:spPr>
          <a:xfrm>
            <a:off x="457200" y="1890360"/>
            <a:ext cx="8229600" cy="423540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mmary of findings from Scholarly Communication in Africa Programme Altmetrics research:</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 Institutions do not maintain good records of research outputs</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Researchers do not retain quality information on their outputs</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 Collecting identifiers and online locations would enable use of output data</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 For outputs with identifiers, obtaining data on use and performance is simp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 There is limited social media activity around outputs</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 Use of research is heavily biased towards North America and Euro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16000" y="284040"/>
            <a:ext cx="8470800" cy="8366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ea typeface="Arial Narrow"/>
              </a:rPr>
              <a:t>References</a:t>
            </a:r>
            <a:endParaRPr b="0" lang="en-US" sz="3200" spc="-1" strike="noStrike">
              <a:solidFill>
                <a:srgbClr val="000000"/>
              </a:solidFill>
              <a:latin typeface="Calibri"/>
            </a:endParaRPr>
          </a:p>
        </p:txBody>
      </p:sp>
      <p:sp>
        <p:nvSpPr>
          <p:cNvPr id="147" name=""/>
          <p:cNvSpPr txBox="1"/>
          <p:nvPr/>
        </p:nvSpPr>
        <p:spPr>
          <a:xfrm>
            <a:off x="216000" y="1378080"/>
            <a:ext cx="8470800" cy="5032080"/>
          </a:xfrm>
          <a:prstGeom prst="rect">
            <a:avLst/>
          </a:prstGeom>
          <a:noFill/>
          <a:ln w="0">
            <a:noFill/>
          </a:ln>
        </p:spPr>
        <p:txBody>
          <a:bodyPr anchor="t">
            <a:norm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400" spc="-1" strike="noStrike">
                <a:solidFill>
                  <a:srgbClr val="000000"/>
                </a:solidFill>
                <a:latin typeface="Arial"/>
                <a:ea typeface="Arial"/>
              </a:rPr>
              <a:t>Banda T, Ngwira M &amp; Becker B (2012) </a:t>
            </a:r>
            <a:r>
              <a:rPr b="0" lang="en-US" sz="1400" spc="-1" strike="noStrike">
                <a:solidFill>
                  <a:srgbClr val="000000"/>
                </a:solidFill>
                <a:latin typeface="Arial"/>
                <a:ea typeface="Arial"/>
              </a:rPr>
              <a:t>e-Infrastructures and Applications in Sub Saharan Africa: Challenges and Opportunities. CHAIN-REDS Presentation.</a:t>
            </a: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400" spc="-1" strike="noStrike">
                <a:solidFill>
                  <a:srgbClr val="000000"/>
                </a:solidFill>
                <a:latin typeface="Arial"/>
                <a:ea typeface="Arial"/>
              </a:rPr>
              <a:t>Bunting I &amp; Cloete N (2012) Cross-National Performance Indicators: A Study of Eight African Universitites. Cape Town: Centre for Higher Education Transformation</a:t>
            </a: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400" spc="-1" strike="noStrike">
                <a:solidFill>
                  <a:srgbClr val="000000"/>
                </a:solidFill>
                <a:latin typeface="Arial"/>
                <a:ea typeface="Arial"/>
              </a:rPr>
              <a:t>Fairy &amp; Owen (2013) Developing an Institutional Research Data Management Plan Service. ACTI EDUCAUSE Report, February 2013</a:t>
            </a: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Holl A (2012) Enhanced Journals: A Case Study with General Remarks. SURF Foundation Proceedings. Available at: </a:t>
            </a:r>
            <a:r>
              <a:rPr b="0" lang="pl-PL" sz="1400" spc="-1" strike="noStrike" u="sng">
                <a:solidFill>
                  <a:srgbClr val="0000ff"/>
                </a:solidFill>
                <a:uFillTx/>
                <a:latin typeface="Arial"/>
                <a:ea typeface="Arial"/>
                <a:hlinkClick r:id="rId1"/>
              </a:rPr>
              <a:t>http://boac.ceon.rs/index.php/BOAC/12/paper/view/83/14</a:t>
            </a: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Arial"/>
                <a:ea typeface="Arial"/>
              </a:rPr>
              <a:t>Mouton J et al. (2010) The state of public science in the SADC region. Johannesburg: Southern African Regional Universities Association (SARUA) </a:t>
            </a: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000000"/>
                </a:solidFill>
                <a:latin typeface="Arial"/>
                <a:ea typeface="Arial"/>
              </a:rPr>
              <a:t>Patrick M (2013) Survey results: Research data management knowledge and training needs among University of Oxford research support staff. Blog post, 14 June 2013. Available at: </a:t>
            </a:r>
            <a:r>
              <a:rPr b="0" lang="en-US" sz="1400" spc="-1" strike="noStrike" u="sng">
                <a:solidFill>
                  <a:srgbClr val="0000ff"/>
                </a:solidFill>
                <a:uFillTx/>
                <a:latin typeface="Arial"/>
                <a:ea typeface="Arial"/>
                <a:hlinkClick r:id="rId2"/>
              </a:rPr>
              <a:t>http://blogs.it.ox.ac.uk/damaro/2013/06/14/survey-results-research-data-management-knowledge-and-training-needs-among-university-of-oxford-research-support-staff/</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lairMdITC TT-Medium"/>
                <a:ea typeface="BlairMdITC TT-Medium"/>
              </a:rPr>
              <a:t>  </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buClr>
                <a:srgbClr val="000000"/>
              </a:buClr>
              <a:buFont typeface="Constant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50" name="TextBox 4"/>
          <p:cNvSpPr/>
          <p:nvPr/>
        </p:nvSpPr>
        <p:spPr>
          <a:xfrm>
            <a:off x="0" y="3336840"/>
            <a:ext cx="9144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michelle.willmers@uct.ac.za</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Narrow"/>
                <a:ea typeface="Arial Narrow"/>
              </a:rPr>
              <a:t>http://opencontent.uct.ac.za/</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scaprogramm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151" name="Picture 5" descr="OpenUCT.png"/>
          <p:cNvPicPr/>
          <p:nvPr/>
        </p:nvPicPr>
        <p:blipFill>
          <a:blip r:embed="rId1"/>
          <a:stretch/>
        </p:blipFill>
        <p:spPr>
          <a:xfrm>
            <a:off x="1930320" y="4402080"/>
            <a:ext cx="5310360" cy="116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ea typeface="Arial Narrow"/>
              </a:rPr>
              <a:t>Peer-reviewed research publications of eight African universities </a:t>
            </a:r>
            <a:br>
              <a:rPr sz="2400"/>
            </a:br>
            <a:r>
              <a:rPr b="0" lang="en-US" sz="1600" spc="-1" strike="noStrike">
                <a:solidFill>
                  <a:srgbClr val="000000"/>
                </a:solidFill>
                <a:latin typeface="Arial Narrow"/>
                <a:ea typeface="Arial Narrow"/>
              </a:rPr>
              <a:t>(2007 compared to 2001)</a:t>
            </a:r>
            <a:endParaRPr b="0" lang="en-US" sz="1600" spc="-1" strike="noStrike">
              <a:solidFill>
                <a:srgbClr val="000000"/>
              </a:solidFill>
              <a:latin typeface="Calibri"/>
            </a:endParaRPr>
          </a:p>
        </p:txBody>
      </p:sp>
      <p:pic>
        <p:nvPicPr>
          <p:cNvPr id="54" name="Content Placeholder 3" descr="Outputs_CHET.tiff"/>
          <p:cNvPicPr/>
          <p:nvPr/>
        </p:nvPicPr>
        <p:blipFill>
          <a:blip r:embed="rId1"/>
          <a:srcRect l="2984" t="15194" r="0" b="1436"/>
          <a:stretch/>
        </p:blipFill>
        <p:spPr>
          <a:xfrm>
            <a:off x="163440" y="1952640"/>
            <a:ext cx="9078840" cy="3639960"/>
          </a:xfrm>
          <a:prstGeom prst="rect">
            <a:avLst/>
          </a:prstGeom>
          <a:ln w="0">
            <a:noFill/>
          </a:ln>
        </p:spPr>
      </p:pic>
      <p:sp>
        <p:nvSpPr>
          <p:cNvPr id="55" name="TextBox 4"/>
          <p:cNvSpPr/>
          <p:nvPr/>
        </p:nvSpPr>
        <p:spPr>
          <a:xfrm>
            <a:off x="311040" y="6188040"/>
            <a:ext cx="6782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Narrow"/>
                <a:ea typeface="Arial Narrow"/>
              </a:rPr>
              <a:t>Source: Bunting &amp; Cloete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reeform 8"/>
          <p:cNvSpPr/>
          <p:nvPr/>
        </p:nvSpPr>
        <p:spPr>
          <a:xfrm>
            <a:off x="-158760" y="1157400"/>
            <a:ext cx="9594720" cy="6619680"/>
          </a:xfrm>
          <a:custGeom>
            <a:avLst/>
            <a:gdLst/>
            <a:ahLst/>
            <a:rect l="l" t="t" r="r" b="b"/>
            <a:pathLst>
              <a:path w="9595580" h="6619757">
                <a:moveTo>
                  <a:pt x="56444" y="6619757"/>
                </a:moveTo>
                <a:cubicBezTo>
                  <a:pt x="51740" y="6149387"/>
                  <a:pt x="50884" y="5678962"/>
                  <a:pt x="42333" y="5208646"/>
                </a:cubicBezTo>
                <a:cubicBezTo>
                  <a:pt x="41474" y="5161382"/>
                  <a:pt x="31265" y="5114709"/>
                  <a:pt x="28222" y="5067535"/>
                </a:cubicBezTo>
                <a:cubicBezTo>
                  <a:pt x="-26269" y="4222923"/>
                  <a:pt x="44929" y="5171838"/>
                  <a:pt x="0" y="4587757"/>
                </a:cubicBezTo>
                <a:cubicBezTo>
                  <a:pt x="4704" y="4488979"/>
                  <a:pt x="6527" y="4390022"/>
                  <a:pt x="14111" y="4291424"/>
                </a:cubicBezTo>
                <a:cubicBezTo>
                  <a:pt x="15951" y="4267510"/>
                  <a:pt x="23932" y="4244466"/>
                  <a:pt x="28222" y="4220868"/>
                </a:cubicBezTo>
                <a:cubicBezTo>
                  <a:pt x="33340" y="4192718"/>
                  <a:pt x="37629" y="4164424"/>
                  <a:pt x="42333" y="4136202"/>
                </a:cubicBezTo>
                <a:cubicBezTo>
                  <a:pt x="47037" y="4042128"/>
                  <a:pt x="49733" y="3947931"/>
                  <a:pt x="56444" y="3853979"/>
                </a:cubicBezTo>
                <a:cubicBezTo>
                  <a:pt x="59146" y="3816153"/>
                  <a:pt x="69967" y="3779009"/>
                  <a:pt x="70555" y="3741091"/>
                </a:cubicBezTo>
                <a:cubicBezTo>
                  <a:pt x="79378" y="3171992"/>
                  <a:pt x="76108" y="2602749"/>
                  <a:pt x="84666" y="2033646"/>
                </a:cubicBezTo>
                <a:cubicBezTo>
                  <a:pt x="85318" y="1990318"/>
                  <a:pt x="89235" y="1836294"/>
                  <a:pt x="127000" y="1779646"/>
                </a:cubicBezTo>
                <a:cubicBezTo>
                  <a:pt x="136407" y="1765535"/>
                  <a:pt x="145365" y="1751113"/>
                  <a:pt x="155222" y="1737313"/>
                </a:cubicBezTo>
                <a:cubicBezTo>
                  <a:pt x="168892" y="1718175"/>
                  <a:pt x="184068" y="1700135"/>
                  <a:pt x="197555" y="1680868"/>
                </a:cubicBezTo>
                <a:cubicBezTo>
                  <a:pt x="217006" y="1653081"/>
                  <a:pt x="254000" y="1596202"/>
                  <a:pt x="254000" y="1596202"/>
                </a:cubicBezTo>
                <a:cubicBezTo>
                  <a:pt x="285840" y="1500681"/>
                  <a:pt x="240975" y="1597647"/>
                  <a:pt x="310444" y="1539757"/>
                </a:cubicBezTo>
                <a:cubicBezTo>
                  <a:pt x="328512" y="1524701"/>
                  <a:pt x="339108" y="1502451"/>
                  <a:pt x="352778" y="1483313"/>
                </a:cubicBezTo>
                <a:cubicBezTo>
                  <a:pt x="362636" y="1469512"/>
                  <a:pt x="372011" y="1455361"/>
                  <a:pt x="381000" y="1440979"/>
                </a:cubicBezTo>
                <a:cubicBezTo>
                  <a:pt x="395536" y="1417721"/>
                  <a:pt x="406200" y="1391841"/>
                  <a:pt x="423333" y="1370424"/>
                </a:cubicBezTo>
                <a:cubicBezTo>
                  <a:pt x="470503" y="1311461"/>
                  <a:pt x="484253" y="1306292"/>
                  <a:pt x="536222" y="1271646"/>
                </a:cubicBezTo>
                <a:cubicBezTo>
                  <a:pt x="545629" y="1257535"/>
                  <a:pt x="557763" y="1244901"/>
                  <a:pt x="564444" y="1229313"/>
                </a:cubicBezTo>
                <a:cubicBezTo>
                  <a:pt x="572084" y="1211487"/>
                  <a:pt x="572982" y="1191444"/>
                  <a:pt x="578555" y="1172868"/>
                </a:cubicBezTo>
                <a:cubicBezTo>
                  <a:pt x="587103" y="1144374"/>
                  <a:pt x="599563" y="1117063"/>
                  <a:pt x="606778" y="1088202"/>
                </a:cubicBezTo>
                <a:cubicBezTo>
                  <a:pt x="611482" y="1069387"/>
                  <a:pt x="613249" y="1049583"/>
                  <a:pt x="620889" y="1031757"/>
                </a:cubicBezTo>
                <a:cubicBezTo>
                  <a:pt x="627570" y="1016169"/>
                  <a:pt x="641527" y="1004593"/>
                  <a:pt x="649111" y="989424"/>
                </a:cubicBezTo>
                <a:cubicBezTo>
                  <a:pt x="655763" y="976120"/>
                  <a:pt x="653930" y="958706"/>
                  <a:pt x="663222" y="947091"/>
                </a:cubicBezTo>
                <a:cubicBezTo>
                  <a:pt x="673816" y="933848"/>
                  <a:pt x="691444" y="928276"/>
                  <a:pt x="705555" y="918868"/>
                </a:cubicBezTo>
                <a:cubicBezTo>
                  <a:pt x="739247" y="817793"/>
                  <a:pt x="691079" y="933418"/>
                  <a:pt x="762000" y="848313"/>
                </a:cubicBezTo>
                <a:cubicBezTo>
                  <a:pt x="790797" y="813757"/>
                  <a:pt x="784205" y="779494"/>
                  <a:pt x="818444" y="749535"/>
                </a:cubicBezTo>
                <a:cubicBezTo>
                  <a:pt x="843971" y="727199"/>
                  <a:pt x="903111" y="693091"/>
                  <a:pt x="903111" y="693091"/>
                </a:cubicBezTo>
                <a:cubicBezTo>
                  <a:pt x="925493" y="625944"/>
                  <a:pt x="901530" y="668954"/>
                  <a:pt x="959555" y="622535"/>
                </a:cubicBezTo>
                <a:cubicBezTo>
                  <a:pt x="1003305" y="587535"/>
                  <a:pt x="972202" y="595046"/>
                  <a:pt x="1030111" y="566091"/>
                </a:cubicBezTo>
                <a:cubicBezTo>
                  <a:pt x="1043415" y="559439"/>
                  <a:pt x="1058772" y="557838"/>
                  <a:pt x="1072444" y="551979"/>
                </a:cubicBezTo>
                <a:cubicBezTo>
                  <a:pt x="1122578" y="530493"/>
                  <a:pt x="1128704" y="523880"/>
                  <a:pt x="1171222" y="495535"/>
                </a:cubicBezTo>
                <a:cubicBezTo>
                  <a:pt x="1175926" y="476720"/>
                  <a:pt x="1174575" y="455228"/>
                  <a:pt x="1185333" y="439091"/>
                </a:cubicBezTo>
                <a:cubicBezTo>
                  <a:pt x="1194740" y="424980"/>
                  <a:pt x="1220778" y="426366"/>
                  <a:pt x="1227666" y="410868"/>
                </a:cubicBezTo>
                <a:cubicBezTo>
                  <a:pt x="1241174" y="380475"/>
                  <a:pt x="1235255" y="344705"/>
                  <a:pt x="1241778" y="312091"/>
                </a:cubicBezTo>
                <a:cubicBezTo>
                  <a:pt x="1244695" y="297505"/>
                  <a:pt x="1251803" y="284059"/>
                  <a:pt x="1255889" y="269757"/>
                </a:cubicBezTo>
                <a:cubicBezTo>
                  <a:pt x="1261217" y="251109"/>
                  <a:pt x="1264672" y="231961"/>
                  <a:pt x="1270000" y="213313"/>
                </a:cubicBezTo>
                <a:cubicBezTo>
                  <a:pt x="1274086" y="199011"/>
                  <a:pt x="1275465" y="183083"/>
                  <a:pt x="1284111" y="170979"/>
                </a:cubicBezTo>
                <a:cubicBezTo>
                  <a:pt x="1299576" y="149327"/>
                  <a:pt x="1323239" y="134737"/>
                  <a:pt x="1340555" y="114535"/>
                </a:cubicBezTo>
                <a:cubicBezTo>
                  <a:pt x="1351592" y="101658"/>
                  <a:pt x="1354667" y="81609"/>
                  <a:pt x="1368778" y="72202"/>
                </a:cubicBezTo>
                <a:cubicBezTo>
                  <a:pt x="1384915" y="61444"/>
                  <a:pt x="1406646" y="63664"/>
                  <a:pt x="1425222" y="58091"/>
                </a:cubicBezTo>
                <a:cubicBezTo>
                  <a:pt x="1453716" y="49543"/>
                  <a:pt x="1509889" y="29868"/>
                  <a:pt x="1509889" y="29868"/>
                </a:cubicBezTo>
                <a:cubicBezTo>
                  <a:pt x="1524000" y="20461"/>
                  <a:pt x="1535394" y="3750"/>
                  <a:pt x="1552222" y="1646"/>
                </a:cubicBezTo>
                <a:cubicBezTo>
                  <a:pt x="1633161" y="-8471"/>
                  <a:pt x="1629320" y="29047"/>
                  <a:pt x="1665111" y="86313"/>
                </a:cubicBezTo>
                <a:cubicBezTo>
                  <a:pt x="1690901" y="127577"/>
                  <a:pt x="1704622" y="143698"/>
                  <a:pt x="1735666" y="185091"/>
                </a:cubicBezTo>
                <a:cubicBezTo>
                  <a:pt x="1768766" y="284383"/>
                  <a:pt x="1725682" y="161790"/>
                  <a:pt x="1778000" y="283868"/>
                </a:cubicBezTo>
                <a:cubicBezTo>
                  <a:pt x="1783859" y="297540"/>
                  <a:pt x="1787407" y="312091"/>
                  <a:pt x="1792111" y="326202"/>
                </a:cubicBezTo>
                <a:cubicBezTo>
                  <a:pt x="1796815" y="377943"/>
                  <a:pt x="1790943" y="431767"/>
                  <a:pt x="1806222" y="481424"/>
                </a:cubicBezTo>
                <a:cubicBezTo>
                  <a:pt x="1811209" y="497633"/>
                  <a:pt x="1835312" y="499052"/>
                  <a:pt x="1848555" y="509646"/>
                </a:cubicBezTo>
                <a:cubicBezTo>
                  <a:pt x="1858944" y="517957"/>
                  <a:pt x="1866135" y="529885"/>
                  <a:pt x="1876778" y="537868"/>
                </a:cubicBezTo>
                <a:cubicBezTo>
                  <a:pt x="1903913" y="558219"/>
                  <a:pt x="1961444" y="594313"/>
                  <a:pt x="1961444" y="594313"/>
                </a:cubicBezTo>
                <a:cubicBezTo>
                  <a:pt x="2001819" y="715439"/>
                  <a:pt x="1939992" y="522622"/>
                  <a:pt x="1989666" y="721313"/>
                </a:cubicBezTo>
                <a:cubicBezTo>
                  <a:pt x="1996881" y="750173"/>
                  <a:pt x="2001388" y="781226"/>
                  <a:pt x="2017889" y="805979"/>
                </a:cubicBezTo>
                <a:cubicBezTo>
                  <a:pt x="2027296" y="820090"/>
                  <a:pt x="2032868" y="837718"/>
                  <a:pt x="2046111" y="848313"/>
                </a:cubicBezTo>
                <a:cubicBezTo>
                  <a:pt x="2057726" y="857605"/>
                  <a:pt x="2074333" y="857720"/>
                  <a:pt x="2088444" y="862424"/>
                </a:cubicBezTo>
                <a:cubicBezTo>
                  <a:pt x="2102555" y="881239"/>
                  <a:pt x="2115722" y="900801"/>
                  <a:pt x="2130778" y="918868"/>
                </a:cubicBezTo>
                <a:cubicBezTo>
                  <a:pt x="2139295" y="929089"/>
                  <a:pt x="2151018" y="936448"/>
                  <a:pt x="2159000" y="947091"/>
                </a:cubicBezTo>
                <a:cubicBezTo>
                  <a:pt x="2179351" y="974226"/>
                  <a:pt x="2188309" y="1011406"/>
                  <a:pt x="2215444" y="1031757"/>
                </a:cubicBezTo>
                <a:cubicBezTo>
                  <a:pt x="2285456" y="1084267"/>
                  <a:pt x="2252320" y="1061045"/>
                  <a:pt x="2314222" y="1102313"/>
                </a:cubicBezTo>
                <a:cubicBezTo>
                  <a:pt x="2323629" y="1121128"/>
                  <a:pt x="2328977" y="1142597"/>
                  <a:pt x="2342444" y="1158757"/>
                </a:cubicBezTo>
                <a:cubicBezTo>
                  <a:pt x="2353301" y="1171786"/>
                  <a:pt x="2369889" y="1178858"/>
                  <a:pt x="2384778" y="1186979"/>
                </a:cubicBezTo>
                <a:cubicBezTo>
                  <a:pt x="2425953" y="1209438"/>
                  <a:pt x="2487813" y="1244488"/>
                  <a:pt x="2540000" y="1257535"/>
                </a:cubicBezTo>
                <a:cubicBezTo>
                  <a:pt x="2563268" y="1263352"/>
                  <a:pt x="2587037" y="1266942"/>
                  <a:pt x="2610555" y="1271646"/>
                </a:cubicBezTo>
                <a:cubicBezTo>
                  <a:pt x="2624666" y="1281053"/>
                  <a:pt x="2639860" y="1289011"/>
                  <a:pt x="2652889" y="1299868"/>
                </a:cubicBezTo>
                <a:cubicBezTo>
                  <a:pt x="2702625" y="1341314"/>
                  <a:pt x="2712335" y="1367871"/>
                  <a:pt x="2751666" y="1426868"/>
                </a:cubicBezTo>
                <a:cubicBezTo>
                  <a:pt x="2786019" y="1478398"/>
                  <a:pt x="2814988" y="1518057"/>
                  <a:pt x="2836333" y="1582091"/>
                </a:cubicBezTo>
                <a:cubicBezTo>
                  <a:pt x="2841037" y="1596202"/>
                  <a:pt x="2843220" y="1611422"/>
                  <a:pt x="2850444" y="1624424"/>
                </a:cubicBezTo>
                <a:cubicBezTo>
                  <a:pt x="2866917" y="1654075"/>
                  <a:pt x="2906889" y="1709091"/>
                  <a:pt x="2906889" y="1709091"/>
                </a:cubicBezTo>
                <a:cubicBezTo>
                  <a:pt x="2928607" y="1817679"/>
                  <a:pt x="2915183" y="1756380"/>
                  <a:pt x="2949222" y="1892535"/>
                </a:cubicBezTo>
                <a:cubicBezTo>
                  <a:pt x="2960435" y="1937388"/>
                  <a:pt x="2967939" y="1978208"/>
                  <a:pt x="2991555" y="2019535"/>
                </a:cubicBezTo>
                <a:cubicBezTo>
                  <a:pt x="2998156" y="2031086"/>
                  <a:pt x="3010370" y="2038350"/>
                  <a:pt x="3019778" y="2047757"/>
                </a:cubicBezTo>
                <a:cubicBezTo>
                  <a:pt x="3029185" y="2071276"/>
                  <a:pt x="3039106" y="2094595"/>
                  <a:pt x="3048000" y="2118313"/>
                </a:cubicBezTo>
                <a:cubicBezTo>
                  <a:pt x="3064236" y="2161610"/>
                  <a:pt x="3057552" y="2165515"/>
                  <a:pt x="3090333" y="2202979"/>
                </a:cubicBezTo>
                <a:lnTo>
                  <a:pt x="3217333" y="2329979"/>
                </a:lnTo>
                <a:lnTo>
                  <a:pt x="3245555" y="2358202"/>
                </a:lnTo>
                <a:cubicBezTo>
                  <a:pt x="3254963" y="2367610"/>
                  <a:pt x="3266398" y="2375354"/>
                  <a:pt x="3273778" y="2386424"/>
                </a:cubicBezTo>
                <a:cubicBezTo>
                  <a:pt x="3292593" y="2414646"/>
                  <a:pt x="3315053" y="2440753"/>
                  <a:pt x="3330222" y="2471091"/>
                </a:cubicBezTo>
                <a:cubicBezTo>
                  <a:pt x="3349037" y="2508720"/>
                  <a:pt x="3353009" y="2558736"/>
                  <a:pt x="3386666" y="2583979"/>
                </a:cubicBezTo>
                <a:cubicBezTo>
                  <a:pt x="3537194" y="2696875"/>
                  <a:pt x="3353733" y="2551048"/>
                  <a:pt x="3485444" y="2682757"/>
                </a:cubicBezTo>
                <a:cubicBezTo>
                  <a:pt x="3497436" y="2694749"/>
                  <a:pt x="3514535" y="2700384"/>
                  <a:pt x="3527778" y="2710979"/>
                </a:cubicBezTo>
                <a:cubicBezTo>
                  <a:pt x="3538167" y="2719290"/>
                  <a:pt x="3544449" y="2732601"/>
                  <a:pt x="3556000" y="2739202"/>
                </a:cubicBezTo>
                <a:cubicBezTo>
                  <a:pt x="3577993" y="2751769"/>
                  <a:pt x="3604413" y="2755123"/>
                  <a:pt x="3626555" y="2767424"/>
                </a:cubicBezTo>
                <a:cubicBezTo>
                  <a:pt x="3647114" y="2778846"/>
                  <a:pt x="3663862" y="2796087"/>
                  <a:pt x="3683000" y="2809757"/>
                </a:cubicBezTo>
                <a:cubicBezTo>
                  <a:pt x="3696800" y="2819614"/>
                  <a:pt x="3711222" y="2828572"/>
                  <a:pt x="3725333" y="2837979"/>
                </a:cubicBezTo>
                <a:cubicBezTo>
                  <a:pt x="3766460" y="2892816"/>
                  <a:pt x="3808739" y="2954733"/>
                  <a:pt x="3866444" y="2993202"/>
                </a:cubicBezTo>
                <a:cubicBezTo>
                  <a:pt x="3929179" y="3035024"/>
                  <a:pt x="3971711" y="3059381"/>
                  <a:pt x="4021666" y="3134313"/>
                </a:cubicBezTo>
                <a:cubicBezTo>
                  <a:pt x="4049888" y="3176646"/>
                  <a:pt x="4075806" y="3220610"/>
                  <a:pt x="4106333" y="3261313"/>
                </a:cubicBezTo>
                <a:cubicBezTo>
                  <a:pt x="4120444" y="3280128"/>
                  <a:pt x="4135179" y="3298490"/>
                  <a:pt x="4148666" y="3317757"/>
                </a:cubicBezTo>
                <a:cubicBezTo>
                  <a:pt x="4168117" y="3345545"/>
                  <a:pt x="4181127" y="3378440"/>
                  <a:pt x="4205111" y="3402424"/>
                </a:cubicBezTo>
                <a:lnTo>
                  <a:pt x="4390869" y="3506047"/>
                </a:lnTo>
                <a:cubicBezTo>
                  <a:pt x="4404980" y="3520158"/>
                  <a:pt x="4514426" y="3541394"/>
                  <a:pt x="4591157" y="3567335"/>
                </a:cubicBezTo>
                <a:cubicBezTo>
                  <a:pt x="4667888" y="3593276"/>
                  <a:pt x="4746128" y="3618059"/>
                  <a:pt x="4851258" y="3661691"/>
                </a:cubicBezTo>
                <a:cubicBezTo>
                  <a:pt x="4956388" y="3705323"/>
                  <a:pt x="5142779" y="3783426"/>
                  <a:pt x="5221935" y="3829128"/>
                </a:cubicBezTo>
                <a:cubicBezTo>
                  <a:pt x="5301091" y="3874830"/>
                  <a:pt x="5568109" y="3887231"/>
                  <a:pt x="5730556" y="3916948"/>
                </a:cubicBezTo>
                <a:cubicBezTo>
                  <a:pt x="5893003" y="3946665"/>
                  <a:pt x="6099985" y="3995507"/>
                  <a:pt x="6196618" y="4007428"/>
                </a:cubicBezTo>
                <a:cubicBezTo>
                  <a:pt x="6293251" y="4019349"/>
                  <a:pt x="6225052" y="4053235"/>
                  <a:pt x="6310355" y="4073769"/>
                </a:cubicBezTo>
                <a:cubicBezTo>
                  <a:pt x="6395658" y="4094303"/>
                  <a:pt x="6577508" y="4114857"/>
                  <a:pt x="6708436" y="4130633"/>
                </a:cubicBezTo>
                <a:cubicBezTo>
                  <a:pt x="6839364" y="4212750"/>
                  <a:pt x="6966387" y="4154207"/>
                  <a:pt x="7095921" y="4168423"/>
                </a:cubicBezTo>
                <a:cubicBezTo>
                  <a:pt x="7225455" y="4182639"/>
                  <a:pt x="7346441" y="4209590"/>
                  <a:pt x="7485640" y="4215928"/>
                </a:cubicBezTo>
                <a:cubicBezTo>
                  <a:pt x="7624839" y="4222266"/>
                  <a:pt x="7749448" y="4203292"/>
                  <a:pt x="7931112" y="4206451"/>
                </a:cubicBezTo>
                <a:cubicBezTo>
                  <a:pt x="8112776" y="4152746"/>
                  <a:pt x="8392379" y="4212769"/>
                  <a:pt x="8575622" y="4234883"/>
                </a:cubicBezTo>
                <a:cubicBezTo>
                  <a:pt x="8758865" y="4256997"/>
                  <a:pt x="8919994" y="4320179"/>
                  <a:pt x="9030572" y="4339133"/>
                </a:cubicBezTo>
                <a:cubicBezTo>
                  <a:pt x="9141150" y="4358087"/>
                  <a:pt x="9174323" y="4337553"/>
                  <a:pt x="9239090" y="4348610"/>
                </a:cubicBezTo>
                <a:cubicBezTo>
                  <a:pt x="9303857" y="4274371"/>
                  <a:pt x="9363887" y="4343613"/>
                  <a:pt x="9419174" y="4405474"/>
                </a:cubicBezTo>
                <a:cubicBezTo>
                  <a:pt x="9474461" y="4467335"/>
                  <a:pt x="9662424" y="4382430"/>
                  <a:pt x="9570811" y="4719779"/>
                </a:cubicBezTo>
                <a:cubicBezTo>
                  <a:pt x="9479198" y="5057128"/>
                  <a:pt x="9328652" y="6093287"/>
                  <a:pt x="8869497" y="6429572"/>
                </a:cubicBezTo>
                <a:cubicBezTo>
                  <a:pt x="8916935" y="6548168"/>
                  <a:pt x="9280193" y="6302785"/>
                  <a:pt x="9280193" y="6483337"/>
                </a:cubicBezTo>
              </a:path>
            </a:pathLst>
          </a:custGeom>
          <a:gradFill rotWithShape="0">
            <a:gsLst>
              <a:gs pos="0">
                <a:srgbClr val="ffffff"/>
              </a:gs>
              <a:gs pos="100000">
                <a:srgbClr val="1f497d"/>
              </a:gs>
            </a:gsLst>
            <a:lin ang="5400000"/>
          </a:gradFill>
          <a:ln w="25560">
            <a:solidFill>
              <a:srgbClr val="4f81bd"/>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nvGrpSpPr>
          <p:cNvPr id="57" name="Group 2"/>
          <p:cNvGrpSpPr/>
          <p:nvPr/>
        </p:nvGrpSpPr>
        <p:grpSpPr>
          <a:xfrm>
            <a:off x="-343080" y="1270080"/>
            <a:ext cx="6392880" cy="290520"/>
            <a:chOff x="-343080" y="1270080"/>
            <a:chExt cx="6392880" cy="290520"/>
          </a:xfrm>
        </p:grpSpPr>
        <p:sp>
          <p:nvSpPr>
            <p:cNvPr id="58" name="Straight Connector 24"/>
            <p:cNvSpPr/>
            <p:nvPr/>
          </p:nvSpPr>
          <p:spPr>
            <a:xfrm flipH="1">
              <a:off x="-343080" y="1546560"/>
              <a:ext cx="6392880" cy="14040"/>
            </a:xfrm>
            <a:prstGeom prst="line">
              <a:avLst/>
            </a:prstGeom>
            <a:ln w="25560">
              <a:solidFill>
                <a:srgbClr val="4f81bd">
                  <a:alpha val="40000"/>
                </a:srgbClr>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alibri"/>
              </a:endParaRPr>
            </a:p>
          </p:txBody>
        </p:sp>
        <p:sp>
          <p:nvSpPr>
            <p:cNvPr id="59" name="TextBox 39"/>
            <p:cNvSpPr/>
            <p:nvPr/>
          </p:nvSpPr>
          <p:spPr>
            <a:xfrm>
              <a:off x="4781520" y="1270080"/>
              <a:ext cx="12682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Journal Articles</a:t>
              </a:r>
              <a:endParaRPr b="0" lang="en-US" sz="1200" spc="-1" strike="noStrike">
                <a:solidFill>
                  <a:srgbClr val="000000"/>
                </a:solidFill>
                <a:latin typeface="Calibri"/>
              </a:endParaRPr>
            </a:p>
          </p:txBody>
        </p:sp>
      </p:grpSp>
      <p:grpSp>
        <p:nvGrpSpPr>
          <p:cNvPr id="60" name="Group 4"/>
          <p:cNvGrpSpPr/>
          <p:nvPr/>
        </p:nvGrpSpPr>
        <p:grpSpPr>
          <a:xfrm>
            <a:off x="-343080" y="1569960"/>
            <a:ext cx="6392880" cy="292320"/>
            <a:chOff x="-343080" y="1569960"/>
            <a:chExt cx="6392880" cy="292320"/>
          </a:xfrm>
        </p:grpSpPr>
        <p:sp>
          <p:nvSpPr>
            <p:cNvPr id="61" name="Straight Connector 16"/>
            <p:cNvSpPr/>
            <p:nvPr/>
          </p:nvSpPr>
          <p:spPr>
            <a:xfrm flipH="1">
              <a:off x="-343080" y="1848240"/>
              <a:ext cx="6392880" cy="14040"/>
            </a:xfrm>
            <a:prstGeom prst="line">
              <a:avLst/>
            </a:prstGeom>
            <a:ln w="25560">
              <a:solidFill>
                <a:srgbClr val="4f81bd">
                  <a:alpha val="40000"/>
                </a:srgbClr>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alibri"/>
              </a:endParaRPr>
            </a:p>
          </p:txBody>
        </p:sp>
        <p:sp>
          <p:nvSpPr>
            <p:cNvPr id="62" name="TextBox 40"/>
            <p:cNvSpPr/>
            <p:nvPr/>
          </p:nvSpPr>
          <p:spPr>
            <a:xfrm>
              <a:off x="4503240" y="1569960"/>
              <a:ext cx="15465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Conference Papers</a:t>
              </a:r>
              <a:endParaRPr b="0" lang="en-US" sz="1200" spc="-1" strike="noStrike">
                <a:solidFill>
                  <a:srgbClr val="000000"/>
                </a:solidFill>
                <a:latin typeface="Calibri"/>
              </a:endParaRPr>
            </a:p>
          </p:txBody>
        </p:sp>
      </p:grpSp>
      <p:grpSp>
        <p:nvGrpSpPr>
          <p:cNvPr id="63" name="Group 7"/>
          <p:cNvGrpSpPr/>
          <p:nvPr/>
        </p:nvGrpSpPr>
        <p:grpSpPr>
          <a:xfrm>
            <a:off x="-343080" y="1868400"/>
            <a:ext cx="6392880" cy="301680"/>
            <a:chOff x="-343080" y="1868400"/>
            <a:chExt cx="6392880" cy="301680"/>
          </a:xfrm>
        </p:grpSpPr>
        <p:sp>
          <p:nvSpPr>
            <p:cNvPr id="64" name="Straight Connector 19"/>
            <p:cNvSpPr/>
            <p:nvPr/>
          </p:nvSpPr>
          <p:spPr>
            <a:xfrm flipH="1">
              <a:off x="-343080" y="2156040"/>
              <a:ext cx="6392880" cy="14040"/>
            </a:xfrm>
            <a:prstGeom prst="line">
              <a:avLst/>
            </a:prstGeom>
            <a:ln w="25560">
              <a:solidFill>
                <a:srgbClr val="4f81bd">
                  <a:alpha val="40000"/>
                </a:srgbClr>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alibri"/>
              </a:endParaRPr>
            </a:p>
          </p:txBody>
        </p:sp>
        <p:sp>
          <p:nvSpPr>
            <p:cNvPr id="65" name="TextBox 42"/>
            <p:cNvSpPr/>
            <p:nvPr/>
          </p:nvSpPr>
          <p:spPr>
            <a:xfrm>
              <a:off x="4503240" y="1868400"/>
              <a:ext cx="15465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Technical Reports</a:t>
              </a:r>
              <a:endParaRPr b="0" lang="en-US" sz="1200" spc="-1" strike="noStrike">
                <a:solidFill>
                  <a:srgbClr val="000000"/>
                </a:solidFill>
                <a:latin typeface="Calibri"/>
              </a:endParaRPr>
            </a:p>
          </p:txBody>
        </p:sp>
      </p:grpSp>
      <p:grpSp>
        <p:nvGrpSpPr>
          <p:cNvPr id="66" name="Group 12"/>
          <p:cNvGrpSpPr/>
          <p:nvPr/>
        </p:nvGrpSpPr>
        <p:grpSpPr>
          <a:xfrm>
            <a:off x="-343080" y="2170080"/>
            <a:ext cx="6392880" cy="293760"/>
            <a:chOff x="-343080" y="2170080"/>
            <a:chExt cx="6392880" cy="293760"/>
          </a:xfrm>
        </p:grpSpPr>
        <p:sp>
          <p:nvSpPr>
            <p:cNvPr id="67" name="Straight Connector 15"/>
            <p:cNvSpPr/>
            <p:nvPr/>
          </p:nvSpPr>
          <p:spPr>
            <a:xfrm flipH="1">
              <a:off x="-343080" y="2463840"/>
              <a:ext cx="6392880" cy="0"/>
            </a:xfrm>
            <a:prstGeom prst="line">
              <a:avLst/>
            </a:prstGeom>
            <a:ln w="25560">
              <a:solidFill>
                <a:srgbClr val="4f81bd">
                  <a:alpha val="40000"/>
                </a:srgbClr>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8" name="TextBox 43"/>
            <p:cNvSpPr/>
            <p:nvPr/>
          </p:nvSpPr>
          <p:spPr>
            <a:xfrm>
              <a:off x="4503240" y="2170080"/>
              <a:ext cx="15465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Working Papers</a:t>
              </a:r>
              <a:endParaRPr b="0" lang="en-US" sz="1200" spc="-1" strike="noStrike">
                <a:solidFill>
                  <a:srgbClr val="000000"/>
                </a:solidFill>
                <a:latin typeface="Calibri"/>
              </a:endParaRPr>
            </a:p>
          </p:txBody>
        </p:sp>
      </p:grpSp>
      <p:grpSp>
        <p:nvGrpSpPr>
          <p:cNvPr id="69" name="Group 14"/>
          <p:cNvGrpSpPr/>
          <p:nvPr/>
        </p:nvGrpSpPr>
        <p:grpSpPr>
          <a:xfrm>
            <a:off x="-343080" y="2486160"/>
            <a:ext cx="6392880" cy="290520"/>
            <a:chOff x="-343080" y="2486160"/>
            <a:chExt cx="6392880" cy="290520"/>
          </a:xfrm>
        </p:grpSpPr>
        <p:sp>
          <p:nvSpPr>
            <p:cNvPr id="70" name="Straight Connector 27"/>
            <p:cNvSpPr/>
            <p:nvPr/>
          </p:nvSpPr>
          <p:spPr>
            <a:xfrm flipH="1">
              <a:off x="-343080" y="2762640"/>
              <a:ext cx="6392880" cy="14040"/>
            </a:xfrm>
            <a:prstGeom prst="line">
              <a:avLst/>
            </a:prstGeom>
            <a:ln w="25560">
              <a:solidFill>
                <a:srgbClr val="4f81bd">
                  <a:alpha val="40000"/>
                </a:srgbClr>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alibri"/>
              </a:endParaRPr>
            </a:p>
          </p:txBody>
        </p:sp>
        <p:sp>
          <p:nvSpPr>
            <p:cNvPr id="71" name="TextBox 44"/>
            <p:cNvSpPr/>
            <p:nvPr/>
          </p:nvSpPr>
          <p:spPr>
            <a:xfrm>
              <a:off x="4503240" y="2486160"/>
              <a:ext cx="15465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Policy Briefs</a:t>
              </a:r>
              <a:endParaRPr b="0" lang="en-US" sz="1200" spc="-1" strike="noStrike">
                <a:solidFill>
                  <a:srgbClr val="000000"/>
                </a:solidFill>
                <a:latin typeface="Calibri"/>
              </a:endParaRPr>
            </a:p>
          </p:txBody>
        </p:sp>
      </p:grpSp>
      <p:grpSp>
        <p:nvGrpSpPr>
          <p:cNvPr id="72" name="Group 20"/>
          <p:cNvGrpSpPr/>
          <p:nvPr/>
        </p:nvGrpSpPr>
        <p:grpSpPr>
          <a:xfrm>
            <a:off x="-343080" y="2779560"/>
            <a:ext cx="6392880" cy="309600"/>
            <a:chOff x="-343080" y="2779560"/>
            <a:chExt cx="6392880" cy="309600"/>
          </a:xfrm>
        </p:grpSpPr>
        <p:sp>
          <p:nvSpPr>
            <p:cNvPr id="73" name="Straight Connector 29"/>
            <p:cNvSpPr/>
            <p:nvPr/>
          </p:nvSpPr>
          <p:spPr>
            <a:xfrm flipH="1">
              <a:off x="-343080" y="3075120"/>
              <a:ext cx="6392880" cy="14040"/>
            </a:xfrm>
            <a:prstGeom prst="line">
              <a:avLst/>
            </a:prstGeom>
            <a:ln w="25560">
              <a:solidFill>
                <a:srgbClr val="4f81bd">
                  <a:alpha val="40000"/>
                </a:srgbClr>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alibri"/>
              </a:endParaRPr>
            </a:p>
          </p:txBody>
        </p:sp>
        <p:sp>
          <p:nvSpPr>
            <p:cNvPr id="74" name="TextBox 45"/>
            <p:cNvSpPr/>
            <p:nvPr/>
          </p:nvSpPr>
          <p:spPr>
            <a:xfrm>
              <a:off x="4503240" y="2779560"/>
              <a:ext cx="15465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Blog Posts</a:t>
              </a:r>
              <a:endParaRPr b="0" lang="en-US" sz="1200" spc="-1" strike="noStrike">
                <a:solidFill>
                  <a:srgbClr val="000000"/>
                </a:solidFill>
                <a:latin typeface="Calibri"/>
              </a:endParaRPr>
            </a:p>
          </p:txBody>
        </p:sp>
      </p:grpSp>
      <p:sp>
        <p:nvSpPr>
          <p:cNvPr id="75" name="TextBox 47"/>
          <p:cNvSpPr/>
          <p:nvPr/>
        </p:nvSpPr>
        <p:spPr>
          <a:xfrm>
            <a:off x="5135400" y="3076560"/>
            <a:ext cx="9144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Tweets</a:t>
            </a:r>
            <a:endParaRPr b="0" lang="en-US" sz="1200" spc="-1" strike="noStrike">
              <a:solidFill>
                <a:srgbClr val="000000"/>
              </a:solidFill>
              <a:latin typeface="Calibri"/>
            </a:endParaRPr>
          </a:p>
        </p:txBody>
      </p:sp>
      <p:sp>
        <p:nvSpPr>
          <p:cNvPr id="76" name="Straight Connector 13"/>
          <p:cNvSpPr/>
          <p:nvPr/>
        </p:nvSpPr>
        <p:spPr>
          <a:xfrm>
            <a:off x="-282600" y="3389400"/>
            <a:ext cx="9705960" cy="0"/>
          </a:xfrm>
          <a:prstGeom prst="line">
            <a:avLst/>
          </a:prstGeom>
          <a:ln w="25560">
            <a:solidFill>
              <a:srgbClr val="4f81bd">
                <a:alpha val="90000"/>
              </a:srgbClr>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77" name="Group 22"/>
          <p:cNvGrpSpPr/>
          <p:nvPr/>
        </p:nvGrpSpPr>
        <p:grpSpPr>
          <a:xfrm>
            <a:off x="-343080" y="3413160"/>
            <a:ext cx="6392880" cy="291960"/>
            <a:chOff x="-343080" y="3413160"/>
            <a:chExt cx="6392880" cy="291960"/>
          </a:xfrm>
        </p:grpSpPr>
        <p:sp>
          <p:nvSpPr>
            <p:cNvPr id="78" name="Straight Connector 34"/>
            <p:cNvSpPr/>
            <p:nvPr/>
          </p:nvSpPr>
          <p:spPr>
            <a:xfrm flipH="1">
              <a:off x="-343080" y="3691080"/>
              <a:ext cx="6392880" cy="14040"/>
            </a:xfrm>
            <a:prstGeom prst="line">
              <a:avLst/>
            </a:prstGeom>
            <a:ln w="25560">
              <a:solidFill>
                <a:srgbClr val="4f81bd">
                  <a:alpha val="40000"/>
                </a:srgbClr>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alibri"/>
              </a:endParaRPr>
            </a:p>
          </p:txBody>
        </p:sp>
        <p:sp>
          <p:nvSpPr>
            <p:cNvPr id="79" name="TextBox 37"/>
            <p:cNvSpPr/>
            <p:nvPr/>
          </p:nvSpPr>
          <p:spPr>
            <a:xfrm>
              <a:off x="4781520" y="3413160"/>
              <a:ext cx="12682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E-mails</a:t>
              </a:r>
              <a:endParaRPr b="0" lang="en-US" sz="1200" spc="-1" strike="noStrike">
                <a:solidFill>
                  <a:srgbClr val="000000"/>
                </a:solidFill>
                <a:latin typeface="Calibri"/>
              </a:endParaRPr>
            </a:p>
          </p:txBody>
        </p:sp>
      </p:grpSp>
      <p:grpSp>
        <p:nvGrpSpPr>
          <p:cNvPr id="80" name="Group 25"/>
          <p:cNvGrpSpPr/>
          <p:nvPr/>
        </p:nvGrpSpPr>
        <p:grpSpPr>
          <a:xfrm>
            <a:off x="-343080" y="3691080"/>
            <a:ext cx="6392880" cy="314280"/>
            <a:chOff x="-343080" y="3691080"/>
            <a:chExt cx="6392880" cy="314280"/>
          </a:xfrm>
        </p:grpSpPr>
        <p:sp>
          <p:nvSpPr>
            <p:cNvPr id="81" name="Straight Connector 32"/>
            <p:cNvSpPr/>
            <p:nvPr/>
          </p:nvSpPr>
          <p:spPr>
            <a:xfrm flipH="1">
              <a:off x="-343080" y="3991320"/>
              <a:ext cx="6392880" cy="14040"/>
            </a:xfrm>
            <a:prstGeom prst="line">
              <a:avLst/>
            </a:prstGeom>
            <a:ln w="25560">
              <a:solidFill>
                <a:srgbClr val="4f81bd">
                  <a:alpha val="40000"/>
                </a:srgbClr>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alibri"/>
              </a:endParaRPr>
            </a:p>
          </p:txBody>
        </p:sp>
        <p:sp>
          <p:nvSpPr>
            <p:cNvPr id="82" name="TextBox 38"/>
            <p:cNvSpPr/>
            <p:nvPr/>
          </p:nvSpPr>
          <p:spPr>
            <a:xfrm>
              <a:off x="4228200" y="3691080"/>
              <a:ext cx="182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Collaborative Documents</a:t>
              </a:r>
              <a:endParaRPr b="0" lang="en-US" sz="1200" spc="-1" strike="noStrike">
                <a:solidFill>
                  <a:srgbClr val="000000"/>
                </a:solidFill>
                <a:latin typeface="Calibri"/>
              </a:endParaRPr>
            </a:p>
          </p:txBody>
        </p:sp>
      </p:grpSp>
      <p:grpSp>
        <p:nvGrpSpPr>
          <p:cNvPr id="83" name="Group 35"/>
          <p:cNvGrpSpPr/>
          <p:nvPr/>
        </p:nvGrpSpPr>
        <p:grpSpPr>
          <a:xfrm>
            <a:off x="-343080" y="4011480"/>
            <a:ext cx="6392880" cy="303480"/>
            <a:chOff x="-343080" y="4011480"/>
            <a:chExt cx="6392880" cy="303480"/>
          </a:xfrm>
        </p:grpSpPr>
        <p:sp>
          <p:nvSpPr>
            <p:cNvPr id="84" name="Straight Connector 33"/>
            <p:cNvSpPr/>
            <p:nvPr/>
          </p:nvSpPr>
          <p:spPr>
            <a:xfrm flipH="1">
              <a:off x="-343080" y="4300920"/>
              <a:ext cx="6392880" cy="14040"/>
            </a:xfrm>
            <a:prstGeom prst="line">
              <a:avLst/>
            </a:prstGeom>
            <a:ln w="25560">
              <a:solidFill>
                <a:srgbClr val="4f81bd">
                  <a:alpha val="40000"/>
                </a:srgbClr>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Calibri"/>
              </a:endParaRPr>
            </a:p>
          </p:txBody>
        </p:sp>
        <p:sp>
          <p:nvSpPr>
            <p:cNvPr id="85" name="TextBox 41"/>
            <p:cNvSpPr/>
            <p:nvPr/>
          </p:nvSpPr>
          <p:spPr>
            <a:xfrm>
              <a:off x="4503240" y="4011480"/>
              <a:ext cx="15465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Images &amp; Videos</a:t>
              </a:r>
              <a:endParaRPr b="0" lang="en-US" sz="1200" spc="-1" strike="noStrike">
                <a:solidFill>
                  <a:srgbClr val="000000"/>
                </a:solidFill>
                <a:latin typeface="Calibri"/>
              </a:endParaRPr>
            </a:p>
          </p:txBody>
        </p:sp>
      </p:grpSp>
      <p:grpSp>
        <p:nvGrpSpPr>
          <p:cNvPr id="86" name="Group 36"/>
          <p:cNvGrpSpPr/>
          <p:nvPr/>
        </p:nvGrpSpPr>
        <p:grpSpPr>
          <a:xfrm>
            <a:off x="-343080" y="4330800"/>
            <a:ext cx="6392880" cy="277560"/>
            <a:chOff x="-343080" y="4330800"/>
            <a:chExt cx="6392880" cy="277560"/>
          </a:xfrm>
        </p:grpSpPr>
        <p:sp>
          <p:nvSpPr>
            <p:cNvPr id="87" name="Straight Connector 31"/>
            <p:cNvSpPr/>
            <p:nvPr/>
          </p:nvSpPr>
          <p:spPr>
            <a:xfrm flipH="1">
              <a:off x="-343080" y="4608360"/>
              <a:ext cx="6392880" cy="0"/>
            </a:xfrm>
            <a:prstGeom prst="line">
              <a:avLst/>
            </a:prstGeom>
            <a:ln w="25560">
              <a:solidFill>
                <a:srgbClr val="4f81bd">
                  <a:alpha val="40000"/>
                </a:srgbClr>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88" name="TextBox 48"/>
            <p:cNvSpPr/>
            <p:nvPr/>
          </p:nvSpPr>
          <p:spPr>
            <a:xfrm>
              <a:off x="4228200" y="4330800"/>
              <a:ext cx="182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Animations &amp; Simulations</a:t>
              </a:r>
              <a:endParaRPr b="0" lang="en-US" sz="1200" spc="-1" strike="noStrike">
                <a:solidFill>
                  <a:srgbClr val="000000"/>
                </a:solidFill>
                <a:latin typeface="Calibri"/>
              </a:endParaRPr>
            </a:p>
          </p:txBody>
        </p:sp>
      </p:grpSp>
      <p:sp>
        <p:nvSpPr>
          <p:cNvPr id="89" name="TextBox 49"/>
          <p:cNvSpPr/>
          <p:nvPr/>
        </p:nvSpPr>
        <p:spPr>
          <a:xfrm>
            <a:off x="4502160" y="4627440"/>
            <a:ext cx="15476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Presentations</a:t>
            </a:r>
            <a:endParaRPr b="0" lang="en-US" sz="1200" spc="-1" strike="noStrike">
              <a:solidFill>
                <a:srgbClr val="000000"/>
              </a:solidFill>
              <a:latin typeface="Calibri"/>
            </a:endParaRPr>
          </a:p>
        </p:txBody>
      </p:sp>
      <p:sp>
        <p:nvSpPr>
          <p:cNvPr id="90" name="Straight Connector 55"/>
          <p:cNvSpPr/>
          <p:nvPr/>
        </p:nvSpPr>
        <p:spPr>
          <a:xfrm>
            <a:off x="-282600" y="4905360"/>
            <a:ext cx="9705960" cy="0"/>
          </a:xfrm>
          <a:prstGeom prst="line">
            <a:avLst/>
          </a:prstGeom>
          <a:ln w="25560">
            <a:solidFill>
              <a:srgbClr val="4f81bd">
                <a:alpha val="90000"/>
              </a:srgbClr>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nvGrpSpPr>
          <p:cNvPr id="91" name="Group 21"/>
          <p:cNvGrpSpPr/>
          <p:nvPr/>
        </p:nvGrpSpPr>
        <p:grpSpPr>
          <a:xfrm>
            <a:off x="12600" y="1147680"/>
            <a:ext cx="641520" cy="5116680"/>
            <a:chOff x="12600" y="1147680"/>
            <a:chExt cx="641520" cy="5116680"/>
          </a:xfrm>
        </p:grpSpPr>
        <p:sp>
          <p:nvSpPr>
            <p:cNvPr id="92" name="Up-Down Arrow 17"/>
            <p:cNvSpPr/>
            <p:nvPr/>
          </p:nvSpPr>
          <p:spPr>
            <a:xfrm>
              <a:off x="12600" y="1147680"/>
              <a:ext cx="641520" cy="5116680"/>
            </a:xfrm>
            <a:prstGeom prst="upDownArrow">
              <a:avLst>
                <a:gd name="adj1" fmla="val 50000"/>
                <a:gd name="adj2" fmla="val 51363"/>
              </a:avLst>
            </a:prstGeom>
            <a:solidFill>
              <a:srgbClr val="ffffff"/>
            </a:solidFill>
            <a:ln w="9360">
              <a:solidFill>
                <a:srgbClr val="c0504d"/>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3" name="TextBox 18"/>
            <p:cNvSpPr/>
            <p:nvPr/>
          </p:nvSpPr>
          <p:spPr>
            <a:xfrm rot="16200000">
              <a:off x="-2145960" y="3504600"/>
              <a:ext cx="495000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c0504d"/>
                  </a:solidFill>
                  <a:latin typeface="Calibri"/>
                </a:rPr>
                <a:t>Scholarly Communication</a:t>
              </a:r>
              <a:endParaRPr b="0" lang="en-US" sz="1700" spc="-1" strike="noStrike">
                <a:solidFill>
                  <a:srgbClr val="000000"/>
                </a:solidFill>
                <a:latin typeface="Calibri"/>
              </a:endParaRPr>
            </a:p>
          </p:txBody>
        </p:sp>
      </p:grpSp>
      <p:grpSp>
        <p:nvGrpSpPr>
          <p:cNvPr id="94" name="Group 56"/>
          <p:cNvGrpSpPr/>
          <p:nvPr/>
        </p:nvGrpSpPr>
        <p:grpSpPr>
          <a:xfrm>
            <a:off x="587520" y="1531800"/>
            <a:ext cx="455400" cy="4424400"/>
            <a:chOff x="587520" y="1531800"/>
            <a:chExt cx="455400" cy="4424400"/>
          </a:xfrm>
        </p:grpSpPr>
        <p:sp>
          <p:nvSpPr>
            <p:cNvPr id="95" name="Up-Down Arrow 57"/>
            <p:cNvSpPr/>
            <p:nvPr/>
          </p:nvSpPr>
          <p:spPr>
            <a:xfrm>
              <a:off x="587520" y="1531800"/>
              <a:ext cx="455400" cy="4424400"/>
            </a:xfrm>
            <a:prstGeom prst="upDownArrow">
              <a:avLst>
                <a:gd name="adj1" fmla="val 50000"/>
                <a:gd name="adj2" fmla="val 56043"/>
              </a:avLst>
            </a:prstGeom>
            <a:solidFill>
              <a:srgbClr val="ffffff"/>
            </a:solidFill>
            <a:ln w="9360">
              <a:solidFill>
                <a:srgbClr val="9bbb5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6" name="TextBox 58"/>
            <p:cNvSpPr/>
            <p:nvPr/>
          </p:nvSpPr>
          <p:spPr>
            <a:xfrm rot="16200000">
              <a:off x="-1359000" y="3644640"/>
              <a:ext cx="43308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9bbb59"/>
                  </a:solidFill>
                  <a:latin typeface="Calibri"/>
                </a:rPr>
                <a:t>Tools  AND Services</a:t>
              </a:r>
              <a:endParaRPr b="0" lang="en-US" sz="1300" spc="-1" strike="noStrike">
                <a:solidFill>
                  <a:srgbClr val="000000"/>
                </a:solidFill>
                <a:latin typeface="Calibri"/>
              </a:endParaRPr>
            </a:p>
          </p:txBody>
        </p:sp>
      </p:grpSp>
      <p:grpSp>
        <p:nvGrpSpPr>
          <p:cNvPr id="97" name="Group 46"/>
          <p:cNvGrpSpPr/>
          <p:nvPr/>
        </p:nvGrpSpPr>
        <p:grpSpPr>
          <a:xfrm>
            <a:off x="1143000" y="5008680"/>
            <a:ext cx="7894800" cy="473040"/>
            <a:chOff x="1143000" y="5008680"/>
            <a:chExt cx="7894800" cy="473040"/>
          </a:xfrm>
        </p:grpSpPr>
        <p:sp>
          <p:nvSpPr>
            <p:cNvPr id="98" name="Left-Right Arrow 68"/>
            <p:cNvSpPr/>
            <p:nvPr/>
          </p:nvSpPr>
          <p:spPr>
            <a:xfrm>
              <a:off x="1143000" y="5008680"/>
              <a:ext cx="7894800" cy="473040"/>
            </a:xfrm>
            <a:prstGeom prst="leftRightArrow">
              <a:avLst>
                <a:gd name="adj1" fmla="val 50000"/>
                <a:gd name="adj2" fmla="val 46978"/>
              </a:avLst>
            </a:prstGeom>
            <a:solidFill>
              <a:srgbClr val="ffffff">
                <a:alpha val="80000"/>
              </a:srgbClr>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9" name="TextBox 69"/>
            <p:cNvSpPr/>
            <p:nvPr/>
          </p:nvSpPr>
          <p:spPr>
            <a:xfrm>
              <a:off x="1509480" y="5068800"/>
              <a:ext cx="7290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PRESERVATION AND CURATION</a:t>
              </a:r>
              <a:endParaRPr b="0" lang="en-US" sz="1400" spc="-1" strike="noStrike">
                <a:solidFill>
                  <a:srgbClr val="000000"/>
                </a:solidFill>
                <a:latin typeface="Calibri"/>
              </a:endParaRPr>
            </a:p>
          </p:txBody>
        </p:sp>
      </p:grpSp>
      <p:grpSp>
        <p:nvGrpSpPr>
          <p:cNvPr id="100" name="Group 50"/>
          <p:cNvGrpSpPr/>
          <p:nvPr/>
        </p:nvGrpSpPr>
        <p:grpSpPr>
          <a:xfrm>
            <a:off x="1511280" y="5481720"/>
            <a:ext cx="7161120" cy="782640"/>
            <a:chOff x="1511280" y="5481720"/>
            <a:chExt cx="7161120" cy="782640"/>
          </a:xfrm>
        </p:grpSpPr>
        <p:pic>
          <p:nvPicPr>
            <p:cNvPr id="101" name="Group 89" descr=""/>
            <p:cNvPicPr/>
            <p:nvPr/>
          </p:nvPicPr>
          <p:blipFill>
            <a:blip r:embed="rId1"/>
            <a:stretch/>
          </p:blipFill>
          <p:spPr>
            <a:xfrm>
              <a:off x="1511280" y="5481720"/>
              <a:ext cx="7161120" cy="782640"/>
            </a:xfrm>
            <a:prstGeom prst="rect">
              <a:avLst/>
            </a:prstGeom>
            <a:ln w="0">
              <a:noFill/>
            </a:ln>
          </p:spPr>
        </p:pic>
        <p:sp>
          <p:nvSpPr>
            <p:cNvPr id="102" name="TextBox 3"/>
            <p:cNvSpPr/>
            <p:nvPr/>
          </p:nvSpPr>
          <p:spPr>
            <a:xfrm>
              <a:off x="1540800" y="5712120"/>
              <a:ext cx="1321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Repository</a:t>
              </a:r>
              <a:endParaRPr b="0" lang="en-US" sz="1400" spc="-1" strike="noStrike">
                <a:solidFill>
                  <a:srgbClr val="000000"/>
                </a:solidFill>
                <a:latin typeface="Calibri"/>
              </a:endParaRPr>
            </a:p>
          </p:txBody>
        </p:sp>
        <p:sp>
          <p:nvSpPr>
            <p:cNvPr id="103" name="TextBox 70"/>
            <p:cNvSpPr/>
            <p:nvPr/>
          </p:nvSpPr>
          <p:spPr>
            <a:xfrm>
              <a:off x="3191400" y="5621040"/>
              <a:ext cx="955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Digital</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Library</a:t>
              </a:r>
              <a:endParaRPr b="0" lang="en-US" sz="1400" spc="-1" strike="noStrike">
                <a:solidFill>
                  <a:srgbClr val="000000"/>
                </a:solidFill>
                <a:latin typeface="Calibri"/>
              </a:endParaRPr>
            </a:p>
          </p:txBody>
        </p:sp>
        <p:sp>
          <p:nvSpPr>
            <p:cNvPr id="104" name="TextBox 71"/>
            <p:cNvSpPr/>
            <p:nvPr/>
          </p:nvSpPr>
          <p:spPr>
            <a:xfrm>
              <a:off x="4431240" y="5713560"/>
              <a:ext cx="1321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OER Portal</a:t>
              </a:r>
              <a:endParaRPr b="0" lang="en-US" sz="1400" spc="-1" strike="noStrike">
                <a:solidFill>
                  <a:srgbClr val="000000"/>
                </a:solidFill>
                <a:latin typeface="Calibri"/>
              </a:endParaRPr>
            </a:p>
          </p:txBody>
        </p:sp>
        <p:sp>
          <p:nvSpPr>
            <p:cNvPr id="105" name="TextBox 72"/>
            <p:cNvSpPr/>
            <p:nvPr/>
          </p:nvSpPr>
          <p:spPr>
            <a:xfrm>
              <a:off x="5882400" y="5712120"/>
              <a:ext cx="1321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ebsite</a:t>
              </a:r>
              <a:endParaRPr b="0" lang="en-US" sz="1400" spc="-1" strike="noStrike">
                <a:solidFill>
                  <a:srgbClr val="000000"/>
                </a:solidFill>
                <a:latin typeface="Calibri"/>
              </a:endParaRPr>
            </a:p>
          </p:txBody>
        </p:sp>
        <p:sp>
          <p:nvSpPr>
            <p:cNvPr id="106" name="TextBox 73"/>
            <p:cNvSpPr/>
            <p:nvPr/>
          </p:nvSpPr>
          <p:spPr>
            <a:xfrm>
              <a:off x="7324200" y="5720760"/>
              <a:ext cx="1321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LMS</a:t>
              </a:r>
              <a:endParaRPr b="0" lang="en-US" sz="1400" spc="-1" strike="noStrike">
                <a:solidFill>
                  <a:srgbClr val="000000"/>
                </a:solidFill>
                <a:latin typeface="Calibri"/>
              </a:endParaRPr>
            </a:p>
          </p:txBody>
        </p:sp>
      </p:grpSp>
      <p:sp>
        <p:nvSpPr>
          <p:cNvPr id="107" name="Rectangle 74"/>
          <p:cNvSpPr/>
          <p:nvPr/>
        </p:nvSpPr>
        <p:spPr>
          <a:xfrm>
            <a:off x="-392040" y="1546200"/>
            <a:ext cx="9828000" cy="5446800"/>
          </a:xfrm>
          <a:prstGeom prst="rect">
            <a:avLst/>
          </a:prstGeom>
          <a:solidFill>
            <a:srgbClr val="1f497d">
              <a:alpha val="88000"/>
            </a:srgbClr>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8" name="TextBox 76"/>
          <p:cNvSpPr/>
          <p:nvPr/>
        </p:nvSpPr>
        <p:spPr>
          <a:xfrm>
            <a:off x="290520" y="236520"/>
            <a:ext cx="869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e46c0a"/>
                </a:solidFill>
                <a:latin typeface="Tahoma"/>
                <a:ea typeface="Tahoma"/>
              </a:rPr>
              <a:t>In Southern African context we are producing a great deal of important research, but fail to leverage it for maximum benef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2" presetSubtype="4">
                                  <p:stCondLst>
                                    <p:cond delay="0"/>
                                  </p:stCondLst>
                                  <p:childTnLst>
                                    <p:anim calcmode="lin" valueType="num">
                                      <p:cBhvr additive="base">
                                        <p:cTn id="6" dur="1500"/>
                                        <p:tgtEl>
                                          <p:spTgt spid="107"/>
                                        </p:tgtEl>
                                        <p:attrNameLst>
                                          <p:attrName>ppt_x</p:attrName>
                                        </p:attrNameLst>
                                      </p:cBhvr>
                                      <p:tavLst>
                                        <p:tav tm="0">
                                          <p:val>
                                            <p:strVal val="#ppt_x"/>
                                          </p:val>
                                        </p:tav>
                                        <p:tav tm="100000">
                                          <p:val>
                                            <p:strVal val="#ppt_x"/>
                                          </p:val>
                                        </p:tav>
                                      </p:tavLst>
                                    </p:anim>
                                    <p:anim calcmode="lin" valueType="num">
                                      <p:cBhvr additive="base">
                                        <p:cTn id="7" dur="1500"/>
                                        <p:tgtEl>
                                          <p:spTgt spid="107"/>
                                        </p:tgtEl>
                                        <p:attrNameLst>
                                          <p:attrName>ppt_y</p:attrName>
                                        </p:attrNameLst>
                                      </p:cBhvr>
                                      <p:tavLst>
                                        <p:tav tm="0">
                                          <p:val>
                                            <p:strVal val="#ppt_y"/>
                                          </p:val>
                                        </p:tav>
                                        <p:tav tm="100000">
                                          <p:val>
                                            <p:strVal val="1+#ppt_h/2"/>
                                          </p:val>
                                        </p:tav>
                                      </p:tavLst>
                                    </p:anim>
                                    <p:set>
                                      <p:cBhvr>
                                        <p:cTn id="8" dur="1" fill="hold">
                                          <p:stCondLst>
                                            <p:cond delay="1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Narrow"/>
                <a:ea typeface="Arial Narrow"/>
              </a:rPr>
              <a:t>Scholarly communication is the creation, transformation, dissemination and preservation of knowledge related to teaching, research and scholarly endeav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2" name="Content Placeholder 3" descr="publish definition.tiff"/>
          <p:cNvPicPr/>
          <p:nvPr/>
        </p:nvPicPr>
        <p:blipFill>
          <a:blip r:embed="rId1"/>
          <a:srcRect l="-40345" t="0" r="-40345" b="0"/>
          <a:stretch/>
        </p:blipFill>
        <p:spPr>
          <a:xfrm>
            <a:off x="-1268280" y="-66600"/>
            <a:ext cx="11959920" cy="657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519120"/>
            <a:ext cx="8229600" cy="4525920"/>
          </a:xfrm>
          <a:prstGeom prst="rect">
            <a:avLst/>
          </a:prstGeom>
          <a:noFill/>
          <a:ln w="0">
            <a:noFill/>
          </a:ln>
        </p:spPr>
        <p:txBody>
          <a:bodyPr anchor="t">
            <a:normAutofit fontScale="79000"/>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46c0a"/>
                </a:solidFill>
                <a:latin typeface="Arial Narrow"/>
                <a:ea typeface="Arial Narrow"/>
              </a:rPr>
              <a:t>Principle change in global scholarly communication practice: </a:t>
            </a:r>
            <a:endParaRPr b="0" lang="en-US" sz="36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Change from predominance of journal article/book as sole artifact of knowledge production and scholarly communication </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gt; In which publishers were the purveyors of knowledge</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gt; and Impact Factor as sole measure of impact</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46c0a"/>
                </a:solidFill>
                <a:latin typeface="Arial Narrow"/>
                <a:ea typeface="Arial Narrow"/>
              </a:rPr>
              <a:t>to</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Dynamic, object-driven knowledge exchange facilitated by internet, new tools and new approaches to scholarship</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gt; In which institutions play active role in knowledge dissemination</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gt; And there is a broad range of new tools, methodologies and metrics for generating data on downstream use and impac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6" name=""/>
          <p:cNvSpPr txBox="1"/>
          <p:nvPr/>
        </p:nvSpPr>
        <p:spPr>
          <a:xfrm>
            <a:off x="457200" y="554040"/>
            <a:ext cx="8229600" cy="5572080"/>
          </a:xfrm>
          <a:prstGeom prst="rect">
            <a:avLst/>
          </a:prstGeom>
          <a:noFill/>
          <a:ln w="0">
            <a:noFill/>
          </a:ln>
        </p:spPr>
        <p:txBody>
          <a:bodyPr anchor="t">
            <a:normAutofit fontScale="99000"/>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46c0a"/>
                </a:solidFill>
                <a:latin typeface="Arial Narrow"/>
                <a:ea typeface="Arial Narrow"/>
              </a:rPr>
              <a:t>In this semantically driven, object-oriented scholarly communication paradigm, metadata is the passport to participation.</a:t>
            </a: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ea typeface="Arial Narrow"/>
              </a:rPr>
              <a:t>In order for content to be findable and correctly contextualised, it needs to be curated.</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7933c"/>
                </a:solidFill>
                <a:latin typeface="Arial Narrow"/>
                <a:ea typeface="Arial Narrow"/>
              </a:rPr>
              <a:t>This is the job of both the academic and the institution/organisation. </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ea typeface="Arial Narrow"/>
              </a:rPr>
              <a:t>We want to store things and put them somewhere safe so that they are easy to find and when people come across them they know what they can do with them. That’s curation.</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7933c"/>
                </a:solidFill>
                <a:latin typeface="Arial Narrow"/>
                <a:ea typeface="Arial Narrow"/>
              </a:rPr>
              <a:t>Reviewing, curating, sharing, marketing. That’s publishing.</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8" name=""/>
          <p:cNvSpPr txBox="1"/>
          <p:nvPr/>
        </p:nvSpPr>
        <p:spPr>
          <a:xfrm>
            <a:off x="457200" y="647640"/>
            <a:ext cx="8229600" cy="547848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77933c"/>
                </a:solidFill>
                <a:latin typeface="Arial Narrow"/>
                <a:ea typeface="Arial Narrow"/>
              </a:rPr>
              <a:t>What needs to be in place in order for academics to be able to participate in these new scholarly communication frameworks?</a:t>
            </a:r>
            <a:endParaRPr b="0" lang="en-US" sz="28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1. Objects need to be curated</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2. Objects need to be open and licensed (to people and machines) </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3. Support structures need to be in place</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ea typeface="Arial Narrow"/>
              </a:rPr>
              <a:t>&gt; To support the curation of knowledge objects is to support the scholarly communication process</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2:59:06Z</dcterms:created>
  <dc:creator>SCAP</dc:creator>
  <dc:description/>
  <dc:language>en-US</dc:language>
  <cp:lastModifiedBy>SCAP</cp:lastModifiedBy>
  <dcterms:modified xsi:type="dcterms:W3CDTF">2014-03-10T08:18:19Z</dcterms:modified>
  <cp:revision>294</cp:revision>
  <dc:subject/>
  <dc:title>Opening Everything:  Considerations for African Institutions</dc:title>
</cp:coreProperties>
</file>